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CBA8-1711-4209-B50D-107C077CF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C594-769A-4DA8-ABD2-765871DFC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2AF-E3C6-4714-A39E-FC162B5A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0EE-73A1-452A-9201-D71CDC39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C3E-5D55-4FDE-8F20-D616A6FC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DEC-C7D5-405E-9084-CE2EE46E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770-9D44-4CCB-8F67-210789DD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2B9-2842-4BB2-8D19-1659897E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B96-4B1B-4440-BDE3-F2C1ACD0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8A2-CDBC-45F4-B2E7-5D854DE5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F44-8AF0-4720-BEA3-D717555A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D0D-FA1D-4947-9417-0373DFB0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E23-A6C1-465C-BBD1-D2052A26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2D7-7276-433A-BD95-41735D5A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BA9C-BFCE-499C-B372-143368A8F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38520" y="2785680"/>
            <a:ext cx="7472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 Light"/>
              </a:rPr>
              <a:t>Карактеристике новорођенчади рођене пре или после термина и са малом телесном масом за гестациону старост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Calibri Light"/>
              </a:rPr>
              <a:t>                          проф. 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д</a:t>
            </a:r>
            <a:r>
              <a:rPr b="0" lang="sr-CS" sz="4000" spc="-1" strike="noStrike">
                <a:solidFill>
                  <a:srgbClr val="000000"/>
                </a:solidFill>
                <a:latin typeface="Calibri Light"/>
              </a:rPr>
              <a:t>р А.Симовић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78588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ИЗГЛЕД</a:t>
            </a:r>
            <a:r>
              <a:rPr b="1" lang="hr-HR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НЕДОНОШЧЕТА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23880" y="1999800"/>
            <a:ext cx="70725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ели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ла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дно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ру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МТ слаб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развије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езнат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понта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то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ласић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лаб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ретк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лач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пуште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екстрем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руд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ш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за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ж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ан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е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лануг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лачи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зи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Едем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орзу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топ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ша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ш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шкољ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и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делира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к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ениталије инфантил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2166840" y="2357280"/>
            <a:ext cx="5791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viber_image_2020-05-04_19-47-33.jpg"/>
          <p:cNvPicPr/>
          <p:nvPr/>
        </p:nvPicPr>
        <p:blipFill>
          <a:blip r:embed="rId1"/>
          <a:stretch/>
        </p:blipFill>
        <p:spPr>
          <a:xfrm>
            <a:off x="6953400" y="2071800"/>
            <a:ext cx="31906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ПРОЦЕНА</a:t>
            </a:r>
            <a:r>
              <a:rPr b="1" lang="sr-Latn-CS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ГЕСТАЦИЈСКЕ</a:t>
            </a:r>
            <a:r>
              <a:rPr b="1" lang="sr-Latn-CS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СТАРОСТИ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981080" y="2285640"/>
            <a:ext cx="8258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НАТАЛНА ПРОЦЕ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ређив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м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рођа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ту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лед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нстру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ушерс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ц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рос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емура, висина фундуса матер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иво естриола у крви или урину мај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лич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рфактан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мнионск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ч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Е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јбољ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казатељ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естацијс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р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35712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ПОСТНАТАЛНО: Морфолошка процена ГС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84320" y="1700280"/>
            <a:ext cx="839016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3" descr=""/>
          <p:cNvPicPr/>
          <p:nvPr/>
        </p:nvPicPr>
        <p:blipFill>
          <a:blip r:embed="rId1"/>
          <a:srcRect l="7468" t="37200" r="18136" b="39600"/>
          <a:stretch/>
        </p:blipFill>
        <p:spPr>
          <a:xfrm>
            <a:off x="2279520" y="1052640"/>
            <a:ext cx="73454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ФУНКЦИОНАЛНЕ</a:t>
            </a:r>
            <a:r>
              <a:rPr b="1" lang="hr-HR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КАРАКТЕРИСТИКЕ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23880" y="2142720"/>
            <a:ext cx="8786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Незрела</a:t>
            </a:r>
            <a:r>
              <a:rPr b="1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централна</a:t>
            </a:r>
            <a:r>
              <a:rPr b="1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регулација</a:t>
            </a:r>
            <a:r>
              <a:rPr b="1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дисањ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-”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заборав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д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дише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РДС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јављ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код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3/4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НН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&lt;32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.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чест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плућн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хеморагиј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постасфиктичн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синдром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 пнеумоторак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ИСХРАН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ослабљен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рефлекс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сисањ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гутањ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кашљ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ТЕРМОРЕГУЛАЦИЈ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ЛОШ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велик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површин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односу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ТМ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хиповолем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МАЛЕ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РЕЗЕРВЕ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склоност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ка хипогликемиј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хипокалцемиј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хипонатремиј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ацидоз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  <a:ea typeface="Arial"/>
              </a:rPr>
              <a:t>и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хипопротеинемиј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хиперазотемиј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СКЛОНОСТ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К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ИНФЕКЦИЈ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ХИК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патолошкој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жутиц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рахитису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анемиј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ДАП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НЕК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РОП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82560" y="9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 Light"/>
              </a:rPr>
              <a:t>НЕГ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04760" y="2017440"/>
            <a:ext cx="830556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осебн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оде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нкубатори (дозирање и надзор О2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рофилакса и рани скрини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отребе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у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води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зависе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од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Г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ФОТО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терапиј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,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склоност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ка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нфекцији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СХРАН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ентералн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 (130-200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мл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кг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млек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н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дан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арентера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Веће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отребе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ротеиним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(2-4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гр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кг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/24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есенцијалним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амино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масним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киселинам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минералим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витамин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7772400" y="6095880"/>
            <a:ext cx="1523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7924680" y="6248520"/>
            <a:ext cx="152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6934320" y="4038480"/>
            <a:ext cx="3733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viber_image_2020-05-04_19-48-08.jpg"/>
          <p:cNvPicPr/>
          <p:nvPr/>
        </p:nvPicPr>
        <p:blipFill>
          <a:blip r:embed="rId1"/>
          <a:srcRect l="0" t="18602" r="0" b="18002"/>
          <a:stretch/>
        </p:blipFill>
        <p:spPr>
          <a:xfrm>
            <a:off x="7667640" y="642960"/>
            <a:ext cx="28573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НЕГА ДЕТЕТА У ИЗОЛЕТ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кубато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оле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еб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иниц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ол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ворођенч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штити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накрсн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опход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ц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тал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грож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ођ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33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естацијке недељ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лож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т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трофич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њ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0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Slika0349"/>
          <p:cNvPicPr/>
          <p:nvPr/>
        </p:nvPicPr>
        <p:blipFill>
          <a:blip r:embed="rId1"/>
          <a:stretch/>
        </p:blipFill>
        <p:spPr>
          <a:xfrm>
            <a:off x="7407360" y="4775040"/>
            <a:ext cx="454824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52120" y="1000080"/>
            <a:ext cx="85582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доношче је новорођ. рођено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навршен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37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.н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36+6/7)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259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чунајућ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1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дњ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струациј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честалост превременог рађања у свету износи око 10%, док је у Србији она нешто мања (6,8%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ма порођајној тежини се деле н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разит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Т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B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)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000 грама;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л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Т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LB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)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рам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Т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B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1500-2500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ра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Према ГС недоношчад се деле на: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разит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зрел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енг.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extremely prete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7 6/7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л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зрел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енг.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very prete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д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1 6/7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мерен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зрел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енг.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moderately preter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навршене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до 33 6/7. г.н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„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дтерминско новорођенче 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енг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 late preter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д навршене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е до навршене 36. г.н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Узроци</a:t>
            </a: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ревременог</a:t>
            </a: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орођа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могућност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терус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рж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од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атак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мак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же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јке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фертилност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бачај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ртворође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ремен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лубљивање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ељ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ремене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трак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познат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&gt;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7138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Узроци ИУЗ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80720" y="2071440"/>
            <a:ext cx="85345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ФЕТАЛН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мањен генетск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тенцијал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омозомск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омалиј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гениталн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формациј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ода (симетричан ИУЗ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ЛАЦЕНТАЛНИ</a:t>
            </a:r>
            <a:r>
              <a:rPr b="0" lang="hr-HR" sz="24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суфицијенциј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ацент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брупциј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ацент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ви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лабо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вијен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фаркт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мор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д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асиметричан ИУЗ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МАТЕРНАЛНИ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&lt;16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од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,&gt;36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од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ултипл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П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есто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оничн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тхрањеност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фекциј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шењ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лкохолиза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98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НТРАУТЕРИНИ ЗАСТОЈ РАСТ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3520" y="1928520"/>
            <a:ext cx="900108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ЕФИНИЦИЈ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Хипотрофич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оворођенч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ЕДОСТАЧ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“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ч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&lt;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1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арите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б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рођа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мај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ИМЕТРИЧА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РА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УЗ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аста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&lt;34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али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едоношчет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ма теш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штеће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еста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рас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фету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аступа интарутер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мр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зазива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биолош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фетал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фактори 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ра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утер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лацент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нсуфицијен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4080" y="4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СИМЕТРИЧАН, ПРОПОРЦИОНАЛАН, РАНИ ИЛИ УНУТРАШЊИ (“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INTRISINC</a:t>
            </a: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”) ИУЗР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5120" y="2357280"/>
            <a:ext cx="1117296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познатљив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симетричног, откри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ређењ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ођењ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чиње рано, пре 24.г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јчешће не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на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линич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уролошке незрел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вијен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лвеолар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сте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гова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г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ц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оничн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раутерин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тњ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ућ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зрева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а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 ка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ође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ем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4840" y="-133200"/>
            <a:ext cx="8229600" cy="17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АСИМЕТРИЧАН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 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или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КАСНИ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 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ИУЗР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3080" y="1452600"/>
            <a:ext cx="91440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стај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&gt;34.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зазива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пољашњ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терналн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фактор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ас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тер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лацент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нсуфицијенц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ршав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г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латив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ли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ав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иц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роуглас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ра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удр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ар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ланов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аба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бразда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рве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церира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ж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бора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бдом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гле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вуч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ж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криве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рникс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ш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кољ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штр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ви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лож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скавиц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Екстремитет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уг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ст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анк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оторн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ктивност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јача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емороз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аздражљив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а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г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ас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ач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000000"/>
                </a:solidFill>
                <a:uFillTx/>
                <a:latin typeface="Calibri Light"/>
              </a:rPr>
              <a:t>ДИСМАТУРНИ</a:t>
            </a:r>
            <a:r>
              <a:rPr b="1" lang="sr-Latn-CS" sz="4400" spc="-1" strike="noStrike" u="sng">
                <a:solidFill>
                  <a:srgbClr val="000000"/>
                </a:solidFill>
                <a:uFillTx/>
                <a:latin typeface="Calibri Light"/>
              </a:rPr>
              <a:t> </a:t>
            </a:r>
            <a:r>
              <a:rPr b="1" lang="sr-CS" sz="4400" spc="-1" strike="noStrike" u="sng">
                <a:solidFill>
                  <a:srgbClr val="000000"/>
                </a:solidFill>
                <a:uFillTx/>
                <a:latin typeface="Calibri Light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88100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енешено новорођенч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&gt;42г.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г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а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ж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ледоси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изразит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ув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љушт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ланови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абани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окт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угачк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пчани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тање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к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пчани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ж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боје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еле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ђ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ушт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ворођеначк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олиц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0T12:15:46Z</dcterms:created>
  <dc:creator>User</dc:creator>
  <dc:description/>
  <dc:language>en-US</dc:language>
  <cp:lastModifiedBy>User</cp:lastModifiedBy>
  <dcterms:modified xsi:type="dcterms:W3CDTF">2020-09-30T17:10:08Z</dcterms:modified>
  <cp:revision>11</cp:revision>
  <dc:subject/>
  <dc:title>Карактеристике новорођенчади рођене пре или после термина и са малом телесном масом за гестациону старост                             проф. др А.Симовић</dc:title>
</cp:coreProperties>
</file>