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8B6-76D6-43C3-8E58-9E3623D8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891-1D3A-4E18-91AB-ADD5151D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69C-B386-4423-832C-DC3486F4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387-759C-4497-AF57-EA3118B4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C2F-B15B-4698-9F95-34775F91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C6A-F732-44CA-B830-EDFA7A24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6EC-0511-49C6-A71E-C69EADD9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326-7B41-44DC-958F-87D0934A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E95-CFA4-410B-A228-E4312B17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4CF-3E64-49D4-9DD5-9BB2449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7C6-AA9A-413F-884D-670E0C5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597-D922-4C54-950B-1853ED5A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F10-DA5F-4602-9C4B-DDC32941C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 новорођен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 ОС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ра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а (неинфективна) НН морају бити одвојена од болесних- кадровски и прост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а ван болнице хоспитализују се минимум 7 дана у изолац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а инфекцијом (сумња/потврђена) мора се изолов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е у купа под млазом воде, не у кад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ласка сваком новорођенчету, лекар и сестра стављају маске и перу ру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се отварају лак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епору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едној соби највише 12 Н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сестра максимално може неговати 12 Н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Y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женско новорођен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2:3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љ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7:5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: 7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ћено из регионалног породилишта у пратњи педијатра и мед.сес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хоспитализације: респираторно погорш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 дете из неконтролисане трудноћ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, POG=27c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 скор 4/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39 недељ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 завршен природним пу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 зел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и овојци прокинути непосредно пред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д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неконтролисана трудноћ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удноће мајка је била здрава. Прва трудноћа завршена пре 11 месец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 мајке ``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D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позитивн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одатака везаних за наслеђ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шња болес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рофично, слабије плаче, глава издужена, намрштен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мрко- ружичаста, смежурана, акре ливид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 снижен, рефлекси се не изазивају, потом назна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е напорније, са нискотонским визинг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 над срцем уре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- у бо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о у изоле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ор за кисеоник са 3, а затим и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/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 сатурације кисеоником и срчане рад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казују на ацид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ипокликемиј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 ружичасто, присутне спонтане моторике, развија тахипнеу, Р=80/м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и.в.рехидрација, иницијална А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mecil, Amicacin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тамин К. Вакцине није прими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јему 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лошки обрађ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, са додатним О2- ша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АБ (исти), а од 2-ог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ne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бог 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 при пријему: ацидо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гликеми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ЦНСа- Изражене хиперехогености. Коморе у физиолошким грани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срц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 u fossi oval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плућа: Указује на пнеумонију при пријему ...Контролни налаз уред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узраста НН, нега се спроводи на више н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посрено збрињавање- нега у породилиш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га на одељењ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га здравог НН у кућним 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аљем току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 границама рефернтних вр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сана гликемија 5,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е вредности билирубина –Фото терапија 4 с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=109g/l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С депл.Е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ЗР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за 39Г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ско НН предвиђају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2800g, p50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95: 3947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Д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48cm, p50:50cm, p95: 53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о у термину са ИУЗ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у породилишту- основном збрињав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ње 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 пупча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: 5- 10 минута од рође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о: кад престану пупчане пулз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штипаљком,стерилном трачицом,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у строго асептичним услови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 патрља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уши се за 3- 4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 за 1 недељу и оставља ра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сте за 2 неде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 друго: крварење, влажење, ...- захтева лече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другог прегледа до отпуста из породилишта (2-3 дана)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а обрада пупка антисепти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ње и нега кож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тестови: Гатријев тест, УЗ ЦНСа, скрининг слуха, скрининг на Р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у очи- превенција гонороичне инфе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пусту НН...лекар израђује отпусну листу која садрж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и презиме мајке НН и по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ум и тачно време рођења (значајно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/ОГ/ОГ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трудноће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мај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трудноће (порођаја) по ре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везани за наслеђ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сани резултати скрининг тесто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и остали физикални прегле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8:58:42Z</dcterms:created>
  <dc:creator>Miki</dc:creator>
  <dc:description/>
  <dc:language>en-US</dc:language>
  <cp:lastModifiedBy>Miki</cp:lastModifiedBy>
  <dcterms:modified xsi:type="dcterms:W3CDTF">2020-09-29T15:59:33Z</dcterms:modified>
  <cp:revision>51</cp:revision>
  <dc:subject/>
  <dc:title>PowerPoint Presentation</dc:title>
</cp:coreProperties>
</file>