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9.wmf" ContentType="image/x-wmf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02B1-B80B-4A40-B072-9EC43B23A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5C5E-D669-4C16-B712-A70B7119407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06EB-95A0-4F08-B867-E68C1EDF64F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B816-EF7E-49B6-B4C9-FC88C784532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E0D6-9A2A-4C87-BF61-47767F9F414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635D-9BC9-4352-90D4-383C21F415D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4C6D-E7E9-4628-BEA7-163845F3818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9490-5E46-49EA-9E93-2BBEDC6D5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7B5B-116F-4F44-B245-79F0D35E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9B76B-F1DD-4D4C-B0FE-D73D6B8E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9A6D1-806F-48FA-9689-6D0529F4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7F47C-B833-498C-AE5F-BA95ABFC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B8351-3B55-42C6-A350-C91F73FD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ABA6C-2C6F-42AC-B1AF-DA9F2B84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494A8-878F-408B-8F7C-CDFFEFB2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44D6A-F8F0-4287-ADEA-4CD4BE49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9C89B-8CC7-4ECE-A12E-9B7061DBE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959F2-E528-40A8-9E28-46451024D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0E713-E14D-40A8-AD05-F80F2913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364D-1E0A-4E8B-BD0D-DEF5221F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95D82-7C86-4F3E-87B2-874E95E9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19C0E-F2AF-47B3-B740-50AB431C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8C026-641D-4927-9EDA-E43E8FA4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756A9-543C-491B-A963-41385A24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E2056-7EE1-44D2-9624-ED0EDA66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2F439-FBB5-43D0-813A-B16D32C7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53122-5A86-4B9B-89EE-E71E6684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25BA7-E495-4716-B8D2-CAC33311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9F6AB-70B9-4D89-B63E-8A280F45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71C1C-A3D6-4552-9C53-9E17889C3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5D1F-FEB1-42F5-A21B-8E29737AF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C7FF6-AA92-421D-96B6-6055EE65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17E26-9352-47FD-9B25-B7D5B590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9EDFA-144F-4B44-90AF-0D27A5A1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08D89-EAF9-488C-8F35-A25CBA67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9702C-6141-4780-B0EF-38744259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86E23-D9B2-42EF-974B-8B217E50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49F2E-DCE0-4A74-916F-14C5FC3C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B08DD-059C-41E9-8E41-F45EBB1F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A2A59-E2B9-4B64-A011-3758F4B2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8383E-E32F-4DCD-9C49-25B8B5D6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1614-A1B7-45A9-A7FB-043ADA494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F7E8E-7960-4350-9742-A0829532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73AE3-4FC7-4CE4-97DD-8C76FADFB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F36A0-C09F-4D80-8645-A30C6A1C8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2AD6AE-9954-4FFC-B874-1F3AF5CC7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2FC149-C841-43F2-A680-8B93A7C6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1BA594-24E2-4CBF-BB24-02242835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D9E496-CDE5-4BD1-BA13-98284168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CD6198-D174-4DF8-AF14-7D18E2B9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6517FC-3CE1-40B3-BABD-3A69FF52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DC6F06-8DA3-45DA-891A-60C5EFE6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4B72-D4C2-4DC0-AEF8-275D622E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2EA353-AA4E-496A-B1D9-4EDD67BC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767755-53CB-4984-8866-3ED40C3F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D27FE4-67F2-4ACF-88AE-B0B1F6FA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F3B05D-71F3-469C-885F-BB76B04FE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817DD0-38DA-48EF-A29F-0CA59324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E6F6-1839-44E1-B197-0A771ABF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A92F-FB9E-4782-BC52-34EF86B6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91B7-E448-4726-90AD-92BC5247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3C46-70ED-44AF-8889-FC26EC83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8666-3AE4-41C7-A195-B9CFEAA3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1BC0-F7E6-45B7-8023-30E46B0F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9813-0350-4A62-AB05-7747619B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BA05-F0BF-46F2-B4AC-DAD0E53B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E25F-34CE-4265-A54D-AE0A7137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DC09-C247-4C3E-9509-F834889A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1578-CE89-47A0-AB1E-466E2EB18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7BBDA-D14A-4B17-9ADA-03EE0F9F7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734E3-74B3-4DBD-AEF1-86136ECC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EAAE1-6BB5-4996-97CA-3F07B7B2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A7831-64C1-4DEC-9981-7CFC968E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61944-311D-4EA1-962D-C1A0F34D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9983-5B88-4854-A457-CC5DE462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83163-AB94-4BC1-82B2-AB4D87B3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85407-58B2-4F1B-882E-069A293E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F7D68-7065-4F28-9D9A-2255E90C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0BFD3-8BC2-4553-9B65-D87D145A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518DE-E545-4030-BED0-D050D1D8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CB1CE-3011-4D12-8CA1-CDB55DFE9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97E8D-6A0A-42CA-9ACC-B921D3969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016D1-635B-4EEB-BEDC-932A6C521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5F972-A95C-46B0-BA8B-D53CF629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EAE7F-6920-44CD-AE91-60405765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75A9-2D0B-4C60-8740-9D8A303B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B5A14-57A3-4E3C-B2DF-923FCA88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BB91F-363D-4409-A5FA-82CEA53C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835CD-BED5-4576-BAC3-EDD23DF4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1D37A-4586-47A4-87DE-4ADE6A5C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B9078-11AA-4988-BE48-B22CBE93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B4B5E-A581-452A-9A73-C368CCFE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BD010-7CE6-494A-883F-29EEFF48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B2AD6-228B-4B89-84B2-35487CEEF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62021-78F3-4494-987E-4688D9C6E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F0A65-9FFE-4F21-8D77-F2D3ECE3B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5076-8109-440E-896F-6CC9D7D0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22F0D-0434-46C9-A3C0-29FD7C68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698A5-F2B3-42FE-82CF-DADE3C52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EC571-075A-4187-BD23-07478F06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014F8-2287-4D77-ADF7-33AA1288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2B8A6-0EA8-46C4-89D6-03425A40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58103-E6CA-4D96-B5DF-051CF474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4DFAA-05FB-4A22-A8C9-CEF24340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F8172-B3BE-422C-B5BD-A8FAC50E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87768-45AB-496A-B97C-496CDF90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40D05-7C9F-4DDA-9509-17DD8E58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064C-EEED-4660-B845-A67BD2E6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B107B-B23E-4DE2-B498-3AD08130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8F13C-EE60-44FE-97C3-DF75B858A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6DE08-EABC-4027-BD3D-FE6C7B37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05C19-561F-4685-A6CF-EEF1E372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CEAC7-E5F7-4EF7-91B9-8DC1B944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E6E58-F570-4CB2-9A8B-6B8F9D1C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4E09D-387C-48A1-9F21-29CE06D1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80914-0EDD-4406-994F-3C675687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8A3E6-E316-46B5-B06B-3BA516A6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F0F92-1AD9-4C7E-84E4-1C17671F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0204-C65D-4D75-9B7A-125900BC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55D54-13AA-4F0A-8AFC-195234A5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3C013-7E43-46F4-A1DE-03911F1DD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49A44-FEC2-4450-A57B-02E5B22B4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C908B-697F-4540-B8F1-DC9150F11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41619-474B-4330-AD6C-9D81DB0C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E1F8F-D743-4DC0-9238-B5870135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80C4D-8BB0-40C7-BB98-A1B37AD6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079EA-EAD9-4E26-B54B-5531BEC6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41E84-2A85-49AB-8887-73CA7DB3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D8F8F-E70A-47B0-82DB-315D860B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4B6C-E5B8-48F9-89EE-3DA52196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4BB62-9FEF-4C14-B986-2A428530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1F090-9C57-4B8D-8B19-4F6DD8EE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7144F-1EB2-46EF-A8A0-C0D8349E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E51AC-505B-44D5-AED2-41B9221E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C243C-819B-498F-91CE-417610EF2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87F1B-65A9-4365-A168-57A57F5B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B295E-0B59-4774-81C2-2D80CFEA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0FCD5-C7D1-4648-A9B5-0E9C04D1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28561-6F77-488C-B2C2-3B3A3002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4D961-8FF9-422A-9432-2E328501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8709-541A-4DF5-A89D-950C65F0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3492D-3DA8-43B0-AAE3-FDA2A432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92244-19C1-4D4B-B826-3D4A2D5C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403FE-14BF-4231-87DA-398C68CC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FC6BA-943A-4B85-87CE-1029D5C1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CA4F4-577E-4E38-9C57-2E5DAA27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A7D85-F15D-4AD8-8D4E-62620C91C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D1F5B-1C21-4FC3-9398-08A22CFD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B613B-5C56-4975-8868-50A3A085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D4403-B6A7-4325-9F63-FBA358EE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13A49-8DF9-4F0E-83D8-B9A8BC67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9A5C-1CF1-44E7-9FA5-A7B51FEEBC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5F72-D26E-47AB-A4A7-839BA99D82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AC4E-CDAA-4ABE-AF1E-E892C92ED8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5F13-DC4F-47AC-AF35-056DBAD1D8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6EAC-A84F-4A12-A386-B8597D4175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3430-AF30-4599-965B-0497D31022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E86D-9F76-4648-BE27-AE91CE1B79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902A-882A-4DD0-B40F-B456D8BE4F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5DBA-D9A9-4FA1-A950-40A6C924DF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9424-3EF7-486F-89EE-DBEE300FE6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81CA-8540-4C02-B378-E4E57E96A3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16D6-7F80-42A4-92F3-CF85440784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itle 1"/>
          <p:cNvSpPr/>
          <p:nvPr/>
        </p:nvSpPr>
        <p:spPr>
          <a:xfrm>
            <a:off x="1763640" y="2492280"/>
            <a:ext cx="504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Физиологиј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новорођеног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детет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Subtitle 2"/>
          <p:cNvSpPr/>
          <p:nvPr/>
        </p:nvSpPr>
        <p:spPr>
          <a:xfrm>
            <a:off x="2987640" y="5013360"/>
            <a:ext cx="5716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ф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лександр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имови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1" name="Picture 8" descr="http://www.volonterskicentarkg.org/wp-content/uploads/2011/02/MEDFKG-181x3002.jpg"/>
          <p:cNvPicPr/>
          <p:nvPr/>
        </p:nvPicPr>
        <p:blipFill>
          <a:blip r:embed="rId1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502" name="TextBox 6"/>
          <p:cNvSpPr/>
          <p:nvPr/>
        </p:nvSpPr>
        <p:spPr>
          <a:xfrm>
            <a:off x="1116000" y="47628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MEDICINSKI FAKULT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UNIVERZITET U KRAGUJEVC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TextBox 7"/>
          <p:cNvSpPr/>
          <p:nvPr/>
        </p:nvSpPr>
        <p:spPr>
          <a:xfrm>
            <a:off x="4859280" y="47628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2"/>
          <p:cNvSpPr/>
          <p:nvPr/>
        </p:nvSpPr>
        <p:spPr>
          <a:xfrm>
            <a:off x="611280" y="476280"/>
            <a:ext cx="72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Narrow"/>
              </a:rPr>
              <a:t>П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РИСТУП </a:t>
            </a:r>
            <a:r>
              <a:rPr b="1" lang="sr-CS" sz="3200" spc="-1" strike="noStrike">
                <a:solidFill>
                  <a:srgbClr val="000000"/>
                </a:solidFill>
                <a:latin typeface="Arial Narrow"/>
              </a:rPr>
              <a:t>НОВОРОЂЕНОМ ДЕТЕТ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428760" y="1857240"/>
            <a:ext cx="757224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ко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це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италнос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/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С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1.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и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/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рш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двезива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упчани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оворођенч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енос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byterm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д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провод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дентификациони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ступак</a:t>
            </a:r>
            <a:r>
              <a:rPr b="1" lang="sr-Latn-C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1428840" y="4572000"/>
            <a:ext cx="650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Новорођенче</a:t>
            </a:r>
            <a:r>
              <a:rPr b="0" lang="sr-Latn-C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показује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мајци</a:t>
            </a:r>
            <a:r>
              <a:rPr b="0" lang="sr-Latn-C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голо), због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опсервације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видљивих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аномалија </a:t>
            </a:r>
            <a:r>
              <a:rPr b="1" lang="sr-C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пола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1"/>
          <p:cNvSpPr/>
          <p:nvPr/>
        </p:nvSpPr>
        <p:spPr>
          <a:xfrm>
            <a:off x="826920" y="62064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Box 2"/>
          <p:cNvSpPr/>
          <p:nvPr/>
        </p:nvSpPr>
        <p:spPr>
          <a:xfrm>
            <a:off x="755640" y="642960"/>
            <a:ext cx="767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ИДЕНТИФИКАЦИОНИ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ПОСТУПА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1071720" y="1785960"/>
            <a:ext cx="750096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1f497d"/>
                </a:solidFill>
                <a:latin typeface="Arial Narrow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тављ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ете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ајци наруквиц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мен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роје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нављ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пгар ско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/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и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цењу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естацијска старо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раг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рођајн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вреда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алформација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/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  <a:ea typeface="Arial"/>
              </a:rPr>
              <a:t>проверева </a:t>
            </a:r>
            <a:r>
              <a:rPr b="0" lang="sr-CS" sz="2800" spc="-1" strike="noStrike">
                <a:solidFill>
                  <a:srgbClr val="00b0f0"/>
                </a:solidFill>
                <a:latin typeface="Arial"/>
                <a:ea typeface="Arial"/>
              </a:rPr>
              <a:t>проходност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b0f0"/>
                </a:solidFill>
                <a:latin typeface="Arial"/>
                <a:ea typeface="Arial"/>
              </a:rPr>
              <a:t>једњака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b0f0"/>
                </a:solidFill>
                <a:latin typeface="Arial"/>
                <a:ea typeface="Arial"/>
              </a:rPr>
              <a:t>и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b0f0"/>
                </a:solidFill>
                <a:latin typeface="Arial"/>
                <a:ea typeface="Arial"/>
              </a:rPr>
              <a:t>ану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6.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зима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 антропометријск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ер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Г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/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0" y="765000"/>
            <a:ext cx="864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ПОСТУПА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С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ЗДРАВИ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НОВОРОЂЕНЧЕТОМ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7" name="Picture 10" descr="aspiracija"/>
          <p:cNvPicPr/>
          <p:nvPr/>
        </p:nvPicPr>
        <p:blipFill>
          <a:blip r:embed="rId1"/>
          <a:stretch/>
        </p:blipFill>
        <p:spPr>
          <a:xfrm>
            <a:off x="5616720" y="2714760"/>
            <a:ext cx="3527280" cy="3743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38" name="Rectangle 4"/>
          <p:cNvSpPr/>
          <p:nvPr/>
        </p:nvSpPr>
        <p:spPr>
          <a:xfrm>
            <a:off x="428760" y="2357280"/>
            <a:ext cx="5000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Пре првог удаха новорођенчет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треба нежно АСПИРИРАТИ  усну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шупљину, ждрело и нос да би с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спречила аспирација садржаја кој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иначе испуњава плућа до час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рођењ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Аспирација је неопходна ако је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плодова вода </a:t>
            </a:r>
            <a:r>
              <a:rPr b="0" lang="sr-RS" sz="2400" spc="-1" strike="noStrike">
                <a:solidFill>
                  <a:srgbClr val="ff0000"/>
                </a:solidFill>
                <a:latin typeface="Tahoma"/>
              </a:rPr>
              <a:t>густа, меконијална, крвава ил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0000"/>
                </a:solidFill>
                <a:latin typeface="Tahoma"/>
              </a:rPr>
              <a:t>дете депримирано </a:t>
            </a: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АПГА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СК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500040" y="1428480"/>
            <a:ext cx="528624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љ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бир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це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ардиопулмонал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ерв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функ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ете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1.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ин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ај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датк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италност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оворођенч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5.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ин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.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АЖНИЈ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!!!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ај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ј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зин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даптациј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дравог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оворођенчет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дносно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зин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поравк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сфиктичног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оворођенч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Picture 4" descr=""/>
          <p:cNvPicPr/>
          <p:nvPr/>
        </p:nvPicPr>
        <p:blipFill>
          <a:blip r:embed="rId1"/>
          <a:stretch/>
        </p:blipFill>
        <p:spPr>
          <a:xfrm>
            <a:off x="5786280" y="2286000"/>
            <a:ext cx="3168720" cy="4365720"/>
          </a:xfrm>
          <a:prstGeom prst="rect">
            <a:avLst/>
          </a:prstGeom>
          <a:ln w="0">
            <a:noFill/>
          </a:ln>
        </p:spPr>
      </p:pic>
      <p:sp>
        <p:nvSpPr>
          <p:cNvPr id="542" name="TextBox 5"/>
          <p:cNvSpPr/>
          <p:nvPr/>
        </p:nvSpPr>
        <p:spPr>
          <a:xfrm>
            <a:off x="6504840" y="1785960"/>
            <a:ext cx="22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irginia Apg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-828720"/>
            <a:ext cx="8820000" cy="188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44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1" lang="sr-CS" sz="4400" spc="-1" strike="noStrike">
                <a:solidFill>
                  <a:srgbClr val="000000"/>
                </a:solidFill>
                <a:latin typeface="Arial Black"/>
              </a:rPr>
              <a:t>ПГАР СК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0" y="1341360"/>
          <a:ext cx="9144000" cy="4753080"/>
        </p:xfrm>
        <a:graphic>
          <a:graphicData uri="http://schemas.openxmlformats.org/drawingml/2006/table">
            <a:tbl>
              <a:tblPr/>
              <a:tblGrid>
                <a:gridCol w="2714760"/>
                <a:gridCol w="2000160"/>
                <a:gridCol w="2286000"/>
                <a:gridCol w="2143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      </a:t>
                      </a:r>
                      <a:r>
                        <a:rPr b="1" lang="sr-Latn-CS" sz="3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        </a:t>
                      </a:r>
                      <a:r>
                        <a:rPr b="1" lang="sr-Latn-CS" sz="3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      </a:t>
                      </a:r>
                      <a:r>
                        <a:rPr b="1" lang="sr-Latn-CS" sz="3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БОЈА КОЖ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БЛЕ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ЦИЈАНОТИЧН</a:t>
                      </a:r>
                      <a:r>
                        <a:rPr b="1" lang="sr-Latn-CS" sz="2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РУЖИЧАС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УЛ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ДСУТ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&lt;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&gt;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НУ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ИТА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ЛАБ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ФЛЕКСИЈ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ДОБР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ФЛЕКСИ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00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РЕСПИРАЦИЈ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ДСУТ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ОВРШН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Р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TAK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Л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НАДРАЖЉИВОС</a:t>
                      </a:r>
                      <a:r>
                        <a:rPr b="1" lang="sr-Latn-CS" sz="2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БЕЗ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O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ДГОВОР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ГРИМАС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БРАНИ С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,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ЛАЧ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3"/>
          <p:cNvSpPr/>
          <p:nvPr/>
        </p:nvSpPr>
        <p:spPr>
          <a:xfrm>
            <a:off x="214200" y="1785960"/>
            <a:ext cx="514368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ит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 даје у циљу профилакс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еморагијск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олест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оворођенчет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бавезна је заштит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упчаног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атрљк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нтисептиком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штит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чију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пале се врши укапавањем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: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0,5%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ритромицин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-2,5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%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видо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од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TextBox 5"/>
          <p:cNvSpPr/>
          <p:nvPr/>
        </p:nvSpPr>
        <p:spPr>
          <a:xfrm>
            <a:off x="357120" y="3571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ПОСТУПАК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СА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ЗДРАВИМ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НОВОРОЂЕНЧЕТО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7" name="Picture 10" descr="Credejeve kaplice"/>
          <p:cNvPicPr/>
          <p:nvPr/>
        </p:nvPicPr>
        <p:blipFill>
          <a:blip r:embed="rId1"/>
          <a:stretch/>
        </p:blipFill>
        <p:spPr>
          <a:xfrm>
            <a:off x="5187960" y="3573360"/>
            <a:ext cx="3956040" cy="3284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1"/>
          <p:cNvSpPr/>
          <p:nvPr/>
        </p:nvSpPr>
        <p:spPr>
          <a:xfrm>
            <a:off x="214200" y="1000080"/>
            <a:ext cx="5286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уг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3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цм.Представљ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стат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упча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рпц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бич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асуш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тпадн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-15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ан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ИНФЕКЦИЈЕ ПУПК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ahoma"/>
              </a:rPr>
              <a:t>Blenorrhoea umbilici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 влажење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упчане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ране,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које условљава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настанак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Granuloma umbilici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-израшта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паљенск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ки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ж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и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широ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чвршће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аз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уп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чешћ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ис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етељц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mphalitis и умбиликална флегмо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TextBox 2"/>
          <p:cNvSpPr/>
          <p:nvPr/>
        </p:nvSpPr>
        <p:spPr>
          <a:xfrm>
            <a:off x="2428920" y="285840"/>
            <a:ext cx="40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УПЧАНИ ПАТРЉА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0" name="Picture 4" descr="IV"/>
          <p:cNvPicPr/>
          <p:nvPr/>
        </p:nvPicPr>
        <p:blipFill>
          <a:blip r:embed="rId1"/>
          <a:stretch/>
        </p:blipFill>
        <p:spPr>
          <a:xfrm>
            <a:off x="5500800" y="3714840"/>
            <a:ext cx="3357360" cy="29289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4" descr="IV"/>
          <p:cNvPicPr/>
          <p:nvPr/>
        </p:nvPicPr>
        <p:blipFill>
          <a:blip r:embed="rId2"/>
          <a:stretch/>
        </p:blipFill>
        <p:spPr>
          <a:xfrm>
            <a:off x="5715000" y="1071720"/>
            <a:ext cx="307188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Ж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ДРАВ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ОВОРОЂЕНЧ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57120" y="1125000"/>
            <a:ext cx="850104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Бледа-анемија, плеторична-полицитем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арморизац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ож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акроцијаноз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цијаноз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шак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топал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обич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ис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атолошк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знац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већ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оследиц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вазомотор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температур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естабилност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оворођенчет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ill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физиолошк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промен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виду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ситних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белих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папул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лицу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нарочито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челу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нос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илијариј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ристалин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запушењ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знојног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каналић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површини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кож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им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изглед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ситних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везикулиц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бистрим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садржај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онголск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рљ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транзиторн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тамноплав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макул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различитих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димензиј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лумбосакралном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пределу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кожи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глутеус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јављ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код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90%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НН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азијског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афричког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порекл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апиларни хемангиоми, Пигментни неву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a7d6ff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ТЕЛЕСНА И АМБИЈЕТАЛНА ТЕМПЕРАТУ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0" y="1213920"/>
            <a:ext cx="87868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За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време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феталног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живота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борба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ротив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регревања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лацента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терморегулат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ТЕЖЕ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ОДРЖАВА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ТЕЛЕСНУ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ТЕМПЕРАТУРУ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Хомеотерм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танка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влажна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кожа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велика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телесна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овршина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слабо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развијено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масно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тки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НОРМАЛНА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°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 36-36,5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°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аксиларно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ли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37-37,5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С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ректално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у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орођајној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сали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Arial"/>
              </a:rPr>
              <a:t>Т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око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2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С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За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неодевено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 31-34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°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ВЛАЖНОСТ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50%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Arial"/>
              </a:rPr>
              <a:t> у изоле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За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одевено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 24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°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Arial"/>
              </a:rPr>
              <a:t>у соб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ТРАНСПОРТНИ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НКУБАТ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НФРАЦРВЕНИ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С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 Narrow"/>
              </a:rPr>
              <a:t>Пропорције</a:t>
            </a:r>
            <a:r>
              <a:rPr b="0" lang="sr-Latn-C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 Narrow"/>
              </a:rPr>
              <a:t>т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56760" y="1412640"/>
            <a:ext cx="85726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лав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ли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(1/4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ужи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л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драсл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1/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Лиц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ал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кругласт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андибул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лаб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азвиј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руд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ш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аљка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бдоме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спупч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реди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л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зна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мбилику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кстремите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ратк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мифлекс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днос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лав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убис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убис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топал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1,7 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драсл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к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1,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 rot="10800000">
            <a:off x="868320" y="1426320"/>
            <a:ext cx="46080" cy="57240"/>
          </a:xfrm>
          <a:prstGeom prst="rect">
            <a:avLst/>
          </a:prstGeom>
          <a:noFill/>
          <a:ln w="0">
            <a:noFill/>
          </a:ln>
        </p:spPr>
        <p:txBody>
          <a:bodyPr tIns="11520" bIns="11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44ac"/>
                </a:solidFill>
                <a:latin typeface="Calibri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914400" y="549000"/>
            <a:ext cx="7772400" cy="58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Неонатолог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облас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педијатри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кој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изучав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физиологиј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патологиј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детет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прв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28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дана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живота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Перинаталогија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нов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медицинск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дисципли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чиј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доме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спадај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св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збивањ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од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наврше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г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н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до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краја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прве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постнатал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односн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постпартал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недељ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 Narrow"/>
              </a:rPr>
              <a:t>ТЕЖИНА</a:t>
            </a:r>
            <a:r>
              <a:rPr b="0" lang="sr-Latn-C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</a:rPr>
              <a:t>НОВОРОЂЕНЧ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500040" y="1285560"/>
            <a:ext cx="61437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орођај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телес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ас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ТМ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ајчешћ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2500-4500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г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-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осечно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3,4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г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уш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дец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з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10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150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г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теж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о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женск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Уколик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ТМ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&lt;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2500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г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спитат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разлоге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ал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Т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родитељ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лош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схра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или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авик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боле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ај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ТМ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&gt;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4500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г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дет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дијабетич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ајк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TextBox 4"/>
          <p:cNvSpPr/>
          <p:nvPr/>
        </p:nvSpPr>
        <p:spPr>
          <a:xfrm>
            <a:off x="357120" y="4643280"/>
            <a:ext cx="878688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в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 5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ан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  <a:ea typeface="Arial"/>
              </a:rPr>
              <a:t>изгуби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% 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  <a:ea typeface="Arial"/>
              </a:rPr>
              <a:t>до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10%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ТМ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губ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ч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ок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ли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исањ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ивни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г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Започињање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доја,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b0f0"/>
                </a:solidFill>
                <a:latin typeface="Arial"/>
                <a:ea typeface="Arial"/>
              </a:rPr>
              <a:t>ПТМ</a:t>
            </a:r>
            <a:r>
              <a:rPr b="1" lang="sr-Latn-CS" sz="2000" spc="-1" strike="noStrike">
                <a:solidFill>
                  <a:srgbClr val="00b0f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b0f0"/>
                </a:solidFill>
                <a:latin typeface="Arial"/>
                <a:ea typeface="Arial"/>
              </a:rPr>
              <a:t>се</a:t>
            </a:r>
            <a:r>
              <a:rPr b="1" lang="sr-Latn-CS" sz="2000" spc="-1" strike="noStrike">
                <a:solidFill>
                  <a:srgbClr val="00b0f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b0f0"/>
                </a:solidFill>
                <a:latin typeface="Arial"/>
                <a:ea typeface="Arial"/>
              </a:rPr>
              <a:t>д</a:t>
            </a:r>
            <a:r>
              <a:rPr b="1" lang="ru-RU" sz="2000" spc="-1" strike="noStrike">
                <a:solidFill>
                  <a:srgbClr val="00b0f0"/>
                </a:solidFill>
                <a:latin typeface="Arial"/>
                <a:ea typeface="Arial"/>
              </a:rPr>
              <a:t>о</a:t>
            </a:r>
            <a:r>
              <a:rPr b="1" lang="sr-CS" sz="2000" spc="-1" strike="noStrike">
                <a:solidFill>
                  <a:srgbClr val="00b0f0"/>
                </a:solidFill>
                <a:latin typeface="Arial"/>
                <a:ea typeface="Arial"/>
              </a:rPr>
              <a:t>стигн</a:t>
            </a:r>
            <a:r>
              <a:rPr b="1" lang="ru-RU" sz="2000" spc="-1" strike="noStrike">
                <a:solidFill>
                  <a:srgbClr val="00b0f0"/>
                </a:solidFill>
                <a:latin typeface="Arial"/>
                <a:ea typeface="Arial"/>
              </a:rPr>
              <a:t>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осеку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b0f0"/>
                </a:solidFill>
                <a:latin typeface="Arial"/>
                <a:ea typeface="Arial"/>
              </a:rPr>
              <a:t>за</a:t>
            </a:r>
            <a:r>
              <a:rPr b="1" lang="sr-Latn-CS" sz="2000" spc="-1" strike="noStrike">
                <a:solidFill>
                  <a:srgbClr val="00b0f0"/>
                </a:solidFill>
                <a:latin typeface="Arial"/>
                <a:ea typeface="Arial"/>
              </a:rPr>
              <a:t> 2 </a:t>
            </a:r>
            <a:r>
              <a:rPr b="1" lang="sr-CS" sz="2000" spc="-1" strike="noStrike">
                <a:solidFill>
                  <a:srgbClr val="00b0f0"/>
                </a:solidFill>
                <a:latin typeface="Arial"/>
                <a:ea typeface="Arial"/>
              </a:rPr>
              <a:t>недеље</a:t>
            </a:r>
            <a:r>
              <a:rPr b="1" lang="sr-Latn-CS" sz="2000" spc="-1" strike="noStrike">
                <a:solidFill>
                  <a:srgbClr val="00b0f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рођењ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1" name="Picture 4" descr="http://www.mamaibeba.rs/images/stories/bebina%20tezina%20dva.jpg"/>
          <p:cNvPicPr/>
          <p:nvPr/>
        </p:nvPicPr>
        <p:blipFill>
          <a:blip r:embed="rId1"/>
          <a:stretch/>
        </p:blipFill>
        <p:spPr>
          <a:xfrm>
            <a:off x="6572160" y="1785960"/>
            <a:ext cx="25718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ДУЖИНА</a:t>
            </a:r>
            <a:r>
              <a:rPr b="0" lang="sr-Latn-CS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ОБИМИ</a:t>
            </a:r>
            <a:r>
              <a:rPr b="0" lang="sr-Latn-C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НОВОРОЂЕНЧ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285480" y="1428480"/>
            <a:ext cx="80722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сеч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ужи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оворођенче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к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52±2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ц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;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ечац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сек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1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ц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уж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евојчи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сеча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б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лав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к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35±1,5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ц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ер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 меканим сантиметром постављеним 0,5 цм изнад горње ивице обрва и ушних шкољки и преко најширег дела окципиталне к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б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рудн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ш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рбух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с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ођењ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1-2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ц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ањ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би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ла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Box 6"/>
          <p:cNvSpPr/>
          <p:nvPr/>
        </p:nvSpPr>
        <p:spPr>
          <a:xfrm>
            <a:off x="6588000" y="364500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 Narrow"/>
              </a:rPr>
              <a:t>OG=TD/2+10c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ГЛА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285480" y="1142640"/>
            <a:ext cx="8643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Велик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фонтанел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едњ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ромбоидног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облик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1x1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4x4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ц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алаз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змеђ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фронталних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аријеталних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остиј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иво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оглави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ек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алпациј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ормал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затвар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9-18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есец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ал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фонтанел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Задњ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алаз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змеђ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окципитал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аријеталних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остиј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рођењ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треб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отворе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0,25-1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ц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ормал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затвар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4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есец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Фузиј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главних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утур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лобањских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остиј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аста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5-6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есец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Отворе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утур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омогућавај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ремоделирањ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лобањ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 током порођа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озиционе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деформације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условљене тип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езентаци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АДУВ, КЕФАЛХЕМАТ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4"/>
          <p:cNvSpPr/>
          <p:nvPr/>
        </p:nvSpPr>
        <p:spPr>
          <a:xfrm>
            <a:off x="395280" y="1214280"/>
            <a:ext cx="839160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Очи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(антимонголоидне/монголоидне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wn sy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хипо/хипертелоризам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Језик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(макроглосија-хипотироидизам, мукополисахаридозе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Уши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(анотија, микротија, макротија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Уст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(микростомија, макростомија) Епстеинове перл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Хиперсаливација-атрезија једња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Нос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аплатиран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при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респирацијам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носн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крилц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нормално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н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померају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Искривљеност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знак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дислокациј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хрскавиц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Мали, седласт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фетални алкохолни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синдром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ахондроплазија; велики нос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 тризомија 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Calibri"/>
              </a:rPr>
              <a:t>Атрезија</a:t>
            </a:r>
            <a:r>
              <a:rPr b="1" lang="sr-Latn-C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Calibri"/>
              </a:rPr>
              <a:t>хоан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скључуј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мом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ођењу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ављањем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зогастричн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онд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ВРАТ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ормално кратак. Дугачак у хипотонији, тешкој церебралној патњи и миопатијма. Конгениталне абнормалности врата (циста дуктуса тиреоглосуса, цистични хигром, птеригијум, конгенитална струма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Rectangle 2"/>
          <p:cNvSpPr/>
          <p:nvPr/>
        </p:nvSpPr>
        <p:spPr>
          <a:xfrm>
            <a:off x="857160" y="-1000080"/>
            <a:ext cx="60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TextBox 3"/>
          <p:cNvSpPr/>
          <p:nvPr/>
        </p:nvSpPr>
        <p:spPr>
          <a:xfrm>
            <a:off x="4114440" y="42876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ЛИЦ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 Narrow"/>
              </a:rPr>
              <a:t>ГРУДНИ</a:t>
            </a:r>
            <a:r>
              <a:rPr b="0" lang="sr-Latn-CS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Arial Narrow"/>
              </a:rPr>
              <a:t>КО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Респирациј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рвих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15-20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дан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искључиво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назалн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ериодичн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Дисањ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дијафрагмалног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тип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=40-60/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ми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Аускултаторно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дисањ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грубљ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везикуларно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симетрично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без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ропратних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шушњев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Врх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срца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нормално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уз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лев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ивиц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стернум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Иктус срца на десној стран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декстропозициј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срца, тензиони пнеумоторакс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левострана дијафрагмална херн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Ср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=140±20/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мин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Мож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толерисати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&lt;180/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мин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.). 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елативна</a:t>
            </a:r>
            <a:r>
              <a:rPr b="0" lang="sr-Latn-C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брадикардија</a:t>
            </a:r>
            <a:r>
              <a:rPr b="0" lang="sr-Latn-C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&lt;100/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мин</a:t>
            </a:r>
            <a:r>
              <a:rPr b="0" lang="sr-Latn-C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сталн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могућ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конгенитални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блок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транзиторн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апноичним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кризам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Перифер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пул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95280" y="1412640"/>
            <a:ext cx="82915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Одсуство пулса на доњим екстремитетима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казује на коарктацију аорт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Слабо пуњен пулс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оже да буде последица хипоплазије левог срца и стенозе аорте али чешће је знак хиповолемије, хипотензије и шокног стањ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Т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се изузетно мери при првом прегледу новорођенчета. При томе се мора водити рачуна да манжетна покрива 2/3 надлактице или надколенице.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вис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С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зраст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(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60-90/3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mHg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АБДОМ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-360" y="980640"/>
            <a:ext cx="871524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рођењу предњи трбушни зид је лако испод равни грудног кош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Обавезно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егледати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анус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алим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атетером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Видљив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венск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цртеж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без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атолошког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знача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Угнут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трбух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је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увек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ненормалан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налаз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мањен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нтестиналн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волумен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дуоденална стеноз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 дијафрагмал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херн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Дистензиј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зид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егаколон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меконијални илеус,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асцит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неумоперитонеу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Јетр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алпир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1-3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ц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едиоклавикуларној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линиј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ормал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оврши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јетр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глатк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Слези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оставље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латерал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знад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левог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бубрег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ож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алпират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њен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доњ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ол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УРОГЕНИТАЛНИ ТРА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Бубрез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су лако палпабилни. Палпирају се предњом, дубоком палпацијом. Леви бубрег је нешто нижи од десног. Могу бити потиснути хематомом или Т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нилатерална хипертрофија - хидронефроза или микроцистична дисплазиј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илатерална хипертрофија-инфантилни облик полицистичне боле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М. бешик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е лако палпира када је пу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Спољашње гениталиј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у инфантилне, показују бројне посебности: Код дечака -физиолошка фимоза, хипо/еписпадија, ненормална боја коже скротума (меконијални илеус, интраперитонеална хеморагија, КАХ). Код девојчица-велике усне не покривају мале све до термина, вагинална секре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КИЧМЕНИ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ТУ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571680" y="928800"/>
            <a:ext cx="792936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9720" indent="-57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  <a:ea typeface="Arial"/>
              </a:rPr>
              <a:t>Код новорођенчета кичмени стуб је прав и нема физиолошких кривин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  <a:ea typeface="Arial"/>
              </a:rPr>
              <a:t>Асиметрија леве и десне половине леђа с абнормалном кривином кичменог стуба указују на умерену или тешку конгениталну сколиозу</a:t>
            </a:r>
            <a:r>
              <a:rPr b="0" lang="sr-CS" sz="4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4"/>
          <p:cNvSpPr/>
          <p:nvPr/>
        </p:nvSpPr>
        <p:spPr>
          <a:xfrm>
            <a:off x="611280" y="4581360"/>
            <a:ext cx="5545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Text Box 10"/>
          <p:cNvSpPr/>
          <p:nvPr/>
        </p:nvSpPr>
        <p:spPr>
          <a:xfrm>
            <a:off x="3759120" y="5529240"/>
            <a:ext cx="448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Text Box 12"/>
          <p:cNvSpPr/>
          <p:nvPr/>
        </p:nvSpPr>
        <p:spPr>
          <a:xfrm>
            <a:off x="539640" y="4221000"/>
            <a:ext cx="860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845964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Менингоцеле и мијеломенингоцел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214200" y="1785960"/>
            <a:ext cx="6143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јчешће се налазе у сакрококцигеалном пределу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ницијална терапија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терилне компресе натопљене загрејаним физиолошким раствором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тављање у адекватан положај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нтибиотици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ранспорт у одговарајућу неурохируршку установу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5" name="Picture 8" descr="mc6"/>
          <p:cNvPicPr/>
          <p:nvPr/>
        </p:nvPicPr>
        <p:blipFill>
          <a:blip r:embed="rId1"/>
          <a:stretch/>
        </p:blipFill>
        <p:spPr>
          <a:xfrm>
            <a:off x="5796000" y="1484280"/>
            <a:ext cx="3348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3"/>
          <p:cNvSpPr/>
          <p:nvPr/>
        </p:nvSpPr>
        <p:spPr>
          <a:xfrm>
            <a:off x="928800" y="2142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ИНТРАУТЕРИН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РАС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РАЗВО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Rectangle 4"/>
          <p:cNvSpPr/>
          <p:nvPr/>
        </p:nvSpPr>
        <p:spPr>
          <a:xfrm>
            <a:off x="395280" y="3573360"/>
            <a:ext cx="381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214200" y="1071720"/>
            <a:ext cx="892980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Нормал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трудноћ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тра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1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лунарних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месц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, 4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остконцепцијских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г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280±11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да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Calibri"/>
                <a:ea typeface="Arial"/>
              </a:rPr>
              <a:t>Ембрионални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Calibri"/>
                <a:ea typeface="Arial"/>
              </a:rPr>
              <a:t>период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обухват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b0f0"/>
                </a:solidFill>
                <a:uFillTx/>
                <a:latin typeface="Calibri"/>
                <a:ea typeface="Arial"/>
              </a:rPr>
              <a:t>триместар</a:t>
            </a:r>
            <a:r>
              <a:rPr b="0" lang="sr-Latn-CS" sz="2800" spc="-1" strike="noStrike" u="sng">
                <a:solidFill>
                  <a:srgbClr val="00b0f0"/>
                </a:solidFill>
                <a:uFillTx/>
                <a:latin typeface="Calibri"/>
                <a:ea typeface="Arial"/>
              </a:rPr>
              <a:t> </a:t>
            </a:r>
            <a:r>
              <a:rPr b="0" lang="sr-RS" sz="2800" spc="-1" strike="noStrike" u="sng">
                <a:solidFill>
                  <a:srgbClr val="00b0f0"/>
                </a:solidFill>
                <a:uFillTx/>
                <a:latin typeface="Calibri"/>
                <a:ea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8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г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1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остменструални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недељ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1" lang="sr-CS" sz="2800" spc="-1" strike="noStrike">
                <a:solidFill>
                  <a:srgbClr val="ff0000"/>
                </a:solidFill>
                <a:latin typeface="Calibri"/>
                <a:ea typeface="Arial"/>
              </a:rPr>
              <a:t>Фетални</a:t>
            </a:r>
            <a:r>
              <a:rPr b="1" lang="sr-Latn-CS" sz="28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Calibri"/>
                <a:ea typeface="Arial"/>
              </a:rPr>
              <a:t>период</a:t>
            </a:r>
            <a:r>
              <a:rPr b="1" lang="sr-Latn-CS" sz="28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обухва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0f0"/>
                </a:solidFill>
                <a:uFillTx/>
                <a:latin typeface="Calibri"/>
                <a:ea typeface="Arial"/>
              </a:rPr>
              <a:t>2.</a:t>
            </a:r>
            <a:r>
              <a:rPr b="0" lang="sr-Latn-CS" sz="2800" spc="-1" strike="noStrike" u="sng">
                <a:solidFill>
                  <a:srgbClr val="00b0f0"/>
                </a:solidFill>
                <a:uFillTx/>
                <a:latin typeface="Calibri"/>
                <a:ea typeface="Arial"/>
              </a:rPr>
              <a:t> </a:t>
            </a:r>
            <a:r>
              <a:rPr b="0" lang="sr-CS" sz="2800" spc="-1" strike="noStrike" u="sng">
                <a:solidFill>
                  <a:srgbClr val="00b0f0"/>
                </a:solidFill>
                <a:uFillTx/>
                <a:latin typeface="Calibri"/>
                <a:ea typeface="Arial"/>
              </a:rPr>
              <a:t>триместар</a:t>
            </a:r>
            <a:r>
              <a:rPr b="0" lang="en-US" sz="2800" spc="-1" strike="noStrike" u="sng">
                <a:solidFill>
                  <a:srgbClr val="00b0f0"/>
                </a:solidFill>
                <a:uFillTx/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значајниј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раст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дужину)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0f0"/>
                </a:solidFill>
                <a:uFillTx/>
                <a:latin typeface="Calibri"/>
                <a:ea typeface="Arial"/>
              </a:rPr>
              <a:t>3.</a:t>
            </a:r>
            <a:r>
              <a:rPr b="0" lang="sr-Latn-CS" sz="2800" spc="-1" strike="noStrike" u="sng">
                <a:solidFill>
                  <a:srgbClr val="00b0f0"/>
                </a:solidFill>
                <a:uFillTx/>
                <a:latin typeface="Calibri"/>
                <a:ea typeface="Arial"/>
              </a:rPr>
              <a:t> </a:t>
            </a:r>
            <a:r>
              <a:rPr b="0" lang="sr-CS" sz="2800" spc="-1" strike="noStrike" u="sng">
                <a:solidFill>
                  <a:srgbClr val="00b0f0"/>
                </a:solidFill>
                <a:uFillTx/>
                <a:latin typeface="Calibri"/>
                <a:ea typeface="Arial"/>
              </a:rPr>
              <a:t>Триместар</a:t>
            </a:r>
            <a:r>
              <a:rPr b="0" lang="sr-RS" sz="2800" spc="-1" strike="noStrike" u="sng">
                <a:solidFill>
                  <a:srgbClr val="00b0f0"/>
                </a:solidFill>
                <a:uFillTx/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значајниј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пора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ТМ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9" name="Picture 5" descr="Illustration examples of the first, second and third trimesters of pregnancy."/>
          <p:cNvPicPr/>
          <p:nvPr/>
        </p:nvPicPr>
        <p:blipFill>
          <a:blip r:embed="rId1"/>
          <a:stretch/>
        </p:blipFill>
        <p:spPr>
          <a:xfrm>
            <a:off x="4714920" y="3857760"/>
            <a:ext cx="4248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Сакрококцигеални 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терат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23640" y="1125000"/>
            <a:ext cx="86058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љају велике, неравне, туморе који захватају сакрални и кокцигеални део леђа, деформишу аногенитални предео и могу да компромитују раст и развој доњих ектремитета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Picture 2" descr=""/>
          <p:cNvPicPr/>
          <p:nvPr/>
        </p:nvPicPr>
        <p:blipFill>
          <a:blip r:embed="rId1"/>
          <a:stretch/>
        </p:blipFill>
        <p:spPr>
          <a:xfrm>
            <a:off x="3643200" y="3833640"/>
            <a:ext cx="46436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ЕКСТРЕМИТЕ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85480" y="1600200"/>
            <a:ext cx="8072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Захтевају пажљив преглед због присуства минор малформација: малпозиција прстију, поли/синдактилија, аномалије стопал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еквинус;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варус или валгус-”Чарли Чаплин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еглед кукова: смањена абдукција, неједнака дужина ногу,већи бр. набора на оштећеној страни и спуштено колено указују на конг. дисплазију ку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Bar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Оrtol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1" name="Picture 7" descr="http://www.tk.de/rochelexikon/pics/a20048.000-1_big.gif"/>
          <p:cNvPicPr/>
          <p:nvPr/>
        </p:nvPicPr>
        <p:blipFill>
          <a:blip r:embed="rId1"/>
          <a:stretch/>
        </p:blipFill>
        <p:spPr>
          <a:xfrm>
            <a:off x="6215040" y="4857840"/>
            <a:ext cx="2786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НЕУРОЛОШКИ ПРЕГЛЕД НОВОРОЂЕНЧЕТ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њује с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стање свести;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удно,сомнолентно или апатично,иритабилно,коматозн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посматра се  положај и покрет- спонтана и провоцирана актив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неуромишићни тонус (активни и пасивн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испитују се рефлекси (примарни и тетивни) 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стање чу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214200" y="14292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9720" indent="-57132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РИМИТИВНИ или ПРИМАРНИ РЕФЛЕКС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Рефлекс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сисања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и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гутања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успостављају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још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од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10.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г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н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до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34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г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н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нису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координисани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одсуство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посл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рођењ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означав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теж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оштећењ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ЦНС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Рефлекс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хватања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на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горњим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екстремитетима: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једнострано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ослабљен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одсутан-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знак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парез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/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парализ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доњ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гран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плексус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брахијалис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Функционално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хватањ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јављ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8-1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мес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4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Calibri"/>
                <a:ea typeface="Arial"/>
              </a:rPr>
              <a:t>МОРО</a:t>
            </a:r>
            <a:r>
              <a:rPr b="1" lang="en-GB" sz="20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Calibri"/>
                <a:ea typeface="Arial"/>
              </a:rPr>
              <a:t>РЕФЛЕК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-    Непотпун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одсутан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значи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тежу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депресију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ЦНС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Асиметричан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виђ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код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лезиј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плексус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брахијалис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7"/>
          <p:cNvSpPr/>
          <p:nvPr/>
        </p:nvSpPr>
        <p:spPr>
          <a:xfrm>
            <a:off x="6804000" y="4437000"/>
            <a:ext cx="66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Трајањ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примарни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рефлек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357120" y="1571760"/>
            <a:ext cx="83296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ороов рефлекс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уби између 3. и 6. месе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ефлекс Бабинског перзистир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 12. месе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ефлекс хватања до 3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.-4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. месец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симетрич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онич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рат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4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6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се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ефлекс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скакњ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утоматског хода перзистир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ра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2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се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ле 6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-ог месеца јављају се с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ун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с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зв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пор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ефлекс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ј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њуј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мар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179280" y="1213920"/>
            <a:ext cx="8964720" cy="61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 недеље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гледа у мајку када му се она обраћ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 месеца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гуче и осмехује се мај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аке су већином затворене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рве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 недеље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живота, а затим се све више отварај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 око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 месеца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дете узима понуђени предм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месец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д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ез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слон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ој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з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идржавањ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7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мес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 месеци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спаја слогове, маше, игра се скривалице, пу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ко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сец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ављ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инцетни хв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месец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ој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мостал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12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месец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чињ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од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говар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ат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гр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Box 2"/>
          <p:cNvSpPr/>
          <p:nvPr/>
        </p:nvSpPr>
        <p:spPr>
          <a:xfrm>
            <a:off x="142920" y="785880"/>
            <a:ext cx="90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ОБРАЗАЦ НОРМАЛНОГ ПСИХОМОТОРНОГ РАЗВОЈА у 1-ој год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1"/>
          <p:cNvSpPr/>
          <p:nvPr/>
        </p:nvSpPr>
        <p:spPr>
          <a:xfrm>
            <a:off x="684360" y="1413000"/>
            <a:ext cx="8280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Донешено</a:t>
            </a: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= рође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термин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38.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Недонешено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= рођено пр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37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 259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да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Пренеше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= рође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 &gt;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42.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ил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294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да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почев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о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прв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да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последње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менструал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период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Box 2"/>
          <p:cNvSpPr/>
          <p:nvPr/>
        </p:nvSpPr>
        <p:spPr>
          <a:xfrm>
            <a:off x="1476360" y="549360"/>
            <a:ext cx="748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17375e"/>
                </a:solidFill>
                <a:latin typeface="Arial"/>
                <a:ea typeface="Arial"/>
              </a:rPr>
              <a:t>НОВОРОЂЕНЧЕ</a:t>
            </a:r>
            <a:r>
              <a:rPr b="1" lang="sr-Latn-CS" sz="4000" spc="-1" strike="noStrike">
                <a:solidFill>
                  <a:srgbClr val="17375e"/>
                </a:solidFill>
                <a:latin typeface="Arial"/>
                <a:ea typeface="Arial"/>
              </a:rPr>
              <a:t>=28 </a:t>
            </a:r>
            <a:r>
              <a:rPr b="1" lang="sr-CS" sz="4000" spc="-1" strike="noStrike">
                <a:solidFill>
                  <a:srgbClr val="17375e"/>
                </a:solidFill>
                <a:latin typeface="Arial"/>
                <a:ea typeface="Arial"/>
              </a:rPr>
              <a:t>дан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2"/>
          <p:cNvSpPr/>
          <p:nvPr/>
        </p:nvSpPr>
        <p:spPr>
          <a:xfrm>
            <a:off x="428760" y="1428840"/>
            <a:ext cx="45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лежај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рођа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babyterm”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ихвата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оворођенче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рејач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ветл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ређај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укциј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ераче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егативн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итис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онито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рчан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а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атура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хемоглоби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2 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улс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ксимета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TextBox 3"/>
          <p:cNvSpPr/>
          <p:nvPr/>
        </p:nvSpPr>
        <p:spPr>
          <a:xfrm>
            <a:off x="0" y="404640"/>
            <a:ext cx="87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 Narrow"/>
              </a:rPr>
              <a:t>ПОРОЂАЈНА</a:t>
            </a:r>
            <a:r>
              <a:rPr b="0" lang="sr-Latn-CS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Arial Narrow"/>
              </a:rPr>
              <a:t>САЛ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Picture 8" descr="http://htmlimg2.scribdassets.com/2g5v4flow01l7azn/images/7-6f15ff8005.jpg"/>
          <p:cNvPicPr/>
          <p:nvPr/>
        </p:nvPicPr>
        <p:blipFill>
          <a:blip r:embed="rId1"/>
          <a:srcRect l="32483" t="61908" r="0" b="3886"/>
          <a:stretch/>
        </p:blipFill>
        <p:spPr>
          <a:xfrm>
            <a:off x="4929120" y="1773360"/>
            <a:ext cx="421488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1"/>
          <p:cNvSpPr/>
          <p:nvPr/>
        </p:nvSpPr>
        <p:spPr>
          <a:xfrm>
            <a:off x="250920" y="2428920"/>
            <a:ext cx="532116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рв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ресеца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упчани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врш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непосред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зна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мест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клемовањ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око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20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ц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од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абдомен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TextBox 2"/>
          <p:cNvSpPr/>
          <p:nvPr/>
        </p:nvSpPr>
        <p:spPr>
          <a:xfrm>
            <a:off x="539640" y="47628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Прво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пресецање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пупчаник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250920" y="2205000"/>
            <a:ext cx="8893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 Black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324000" y="1341360"/>
            <a:ext cx="73198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ко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мплетн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кспулзиј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лод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станк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улсациј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упчаника,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упчаник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хватимо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ва</a:t>
            </a:r>
            <a:r>
              <a:rPr b="0" lang="sl-SI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еан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ерилно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сечемо </a:t>
            </a:r>
            <a:r>
              <a:rPr b="0" lang="sr-CS" sz="2800" spc="-1" strike="noStrike">
                <a:solidFill>
                  <a:srgbClr val="ff0000"/>
                </a:solidFill>
                <a:latin typeface="Calibri"/>
              </a:rPr>
              <a:t>(60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ec)</a:t>
            </a:r>
            <a:r>
              <a:rPr b="0" lang="sr-C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9" name="Picture 11" descr="prekinitev popk"/>
          <p:cNvPicPr/>
          <p:nvPr/>
        </p:nvPicPr>
        <p:blipFill>
          <a:blip r:embed="rId1"/>
          <a:stretch/>
        </p:blipFill>
        <p:spPr>
          <a:xfrm>
            <a:off x="5256360" y="3143160"/>
            <a:ext cx="3887640" cy="3714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2"/>
          <p:cNvSpPr/>
          <p:nvPr/>
        </p:nvSpPr>
        <p:spPr>
          <a:xfrm>
            <a:off x="500040" y="476280"/>
            <a:ext cx="82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Друг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пресец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пупчан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1000080" y="1500120"/>
            <a:ext cx="4357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остављ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ластичн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клип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око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2-3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цм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од абдоме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ретход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отис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крв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к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новорођенчету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зврш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друго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ресецањ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упчаник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0,5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цм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спод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клип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уколик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новорођенч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витал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2" name="Picture 15" descr="oskrba popka"/>
          <p:cNvPicPr/>
          <p:nvPr/>
        </p:nvPicPr>
        <p:blipFill>
          <a:blip r:embed="rId1"/>
          <a:stretch/>
        </p:blipFill>
        <p:spPr>
          <a:xfrm>
            <a:off x="5256360" y="2565360"/>
            <a:ext cx="3887640" cy="345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1"/>
          <p:cNvSpPr/>
          <p:nvPr/>
        </p:nvSpPr>
        <p:spPr>
          <a:xfrm>
            <a:off x="0" y="1714680"/>
            <a:ext cx="692928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Нормална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дужина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 око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50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m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→ → → → →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Нормална боја пупчаника  је одређен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плаво-црвеном нијансом крвних судова и светло-сивом бојом Вартонове пихтијасте мас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Сувише дуг пупчаник може да пролаби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Сувише кратак &lt;25 цм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wn sy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ормално постоје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ве артери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 једна умбиликална ве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суство само једне пупчане артер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гуће аномалије УГТ-а 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ВС-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сле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правилн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двезива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г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ста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хематом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пупчаника    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→ → 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TextBox 2"/>
          <p:cNvSpPr/>
          <p:nvPr/>
        </p:nvSpPr>
        <p:spPr>
          <a:xfrm>
            <a:off x="785880" y="42876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арактеристи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ормалног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упчани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5" name="Picture 4" descr="IV"/>
          <p:cNvPicPr/>
          <p:nvPr/>
        </p:nvPicPr>
        <p:blipFill>
          <a:blip r:embed="rId1"/>
          <a:stretch/>
        </p:blipFill>
        <p:spPr>
          <a:xfrm>
            <a:off x="6429240" y="500040"/>
            <a:ext cx="2714760" cy="29289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4" descr="IV"/>
          <p:cNvPicPr/>
          <p:nvPr/>
        </p:nvPicPr>
        <p:blipFill>
          <a:blip r:embed="rId2"/>
          <a:stretch/>
        </p:blipFill>
        <p:spPr>
          <a:xfrm>
            <a:off x="6715080" y="4286160"/>
            <a:ext cx="22860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1"/>
          <p:cNvSpPr/>
          <p:nvPr/>
        </p:nvSpPr>
        <p:spPr>
          <a:xfrm>
            <a:off x="928800" y="1785960"/>
            <a:ext cx="8001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TextBox 2"/>
          <p:cNvSpPr/>
          <p:nvPr/>
        </p:nvSpPr>
        <p:spPr>
          <a:xfrm>
            <a:off x="714240" y="35712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Аномалије пупчаник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TextBox 4"/>
          <p:cNvSpPr/>
          <p:nvPr/>
        </p:nvSpPr>
        <p:spPr>
          <a:xfrm>
            <a:off x="642960" y="1571760"/>
            <a:ext cx="6858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КОЖНИ ПУПА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АМНИОНСКИ  ПУПАК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УПЧАНА  КИЛ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Calibri"/>
                <a:ea typeface="Calibri"/>
              </a:rPr>
              <a:t>ОМФАЛОКЕЛА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*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тражити додатне конгe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Calibri"/>
              </a:rPr>
              <a:t>нитал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аномалије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Calibri"/>
              </a:rPr>
              <a:t> !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ГАСТРОШИ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ЕРЗИСТЕНТНИ ОМФАЛОЕНТЕРИЧНИ ДУКТУС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ФИСТУЛА  УРАХУ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1:05Z</dcterms:created>
  <dc:creator>Jasmina</dc:creator>
  <dc:description/>
  <dc:language>en-US</dc:language>
  <cp:lastModifiedBy>Windows User</cp:lastModifiedBy>
  <dcterms:modified xsi:type="dcterms:W3CDTF">2020-09-11T14:18:22Z</dcterms:modified>
  <cp:revision>852</cp:revision>
  <dc:subject/>
  <dc:title>NOVOROĐENČE</dc:title>
</cp:coreProperties>
</file>