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2385-5250-4499-9124-7062B1CF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DD09-726A-4BF7-B320-AA7C58EF2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480" y="10616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НИМАЦИЈA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 ТРАНС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ОРОЂЕНОГ ДЕ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Win7\Desktop\beba.jpg"/>
          <p:cNvPicPr/>
          <p:nvPr/>
        </p:nvPicPr>
        <p:blipFill>
          <a:blip r:embed="rId1"/>
          <a:stretch/>
        </p:blipFill>
        <p:spPr>
          <a:xfrm>
            <a:off x="2357280" y="2357280"/>
            <a:ext cx="4643640" cy="3032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009080" y="321480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21% О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 flipH="1">
            <a:off x="6857280" y="29289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оо%О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360680" y="52149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590560" y="621504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. др Александра Сим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 piece (Neopuff)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2428560"/>
            <a:ext cx="4500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спираторна линија и “ребрасто” црево које води до пациј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лвул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лвул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ЕП-а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в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Neopuff"/>
          <p:cNvPicPr/>
          <p:nvPr/>
        </p:nvPicPr>
        <p:blipFill>
          <a:blip r:embed="rId1"/>
          <a:stretch/>
        </p:blipFill>
        <p:spPr>
          <a:xfrm>
            <a:off x="5286240" y="3929040"/>
            <a:ext cx="338616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6" descr="Neopuff1"/>
          <p:cNvPicPr/>
          <p:nvPr/>
        </p:nvPicPr>
        <p:blipFill>
          <a:blip r:embed="rId2"/>
          <a:stretch/>
        </p:blipFill>
        <p:spPr>
          <a:xfrm>
            <a:off x="5572080" y="2143080"/>
            <a:ext cx="135108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7" descr="Neopuff2"/>
          <p:cNvPicPr/>
          <p:nvPr/>
        </p:nvPicPr>
        <p:blipFill>
          <a:blip r:embed="rId3"/>
          <a:stretch/>
        </p:blipFill>
        <p:spPr>
          <a:xfrm>
            <a:off x="7358040" y="2143080"/>
            <a:ext cx="135108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о</a:t>
            </a: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зотрахеална</a:t>
            </a: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тубација</a:t>
            </a: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ntubacija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00080" y="2714760"/>
            <a:ext cx="4446720" cy="34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Rectangle 4"/>
          <p:cNvSpPr/>
          <p:nvPr/>
        </p:nvSpPr>
        <p:spPr>
          <a:xfrm>
            <a:off x="5857920" y="264312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ндик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Апсолут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 спонтаних респирација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&lt; 60/мин.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0 сек. адекватне вентилациј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ање агонално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аж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о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зотрахеалн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убациј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4200" y="1785960"/>
            <a:ext cx="892980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Релатив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конијал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да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треб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спирациј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нтилирање балон-маском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елотворн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к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илверман скор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&gt;5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цидобазни ск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; АС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3/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aO2 &lt; 6,6 kP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FiO2 &gt; 60%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кстремно незрело новорођенче 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у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DS &gt; 3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Трахеални</a:t>
            </a:r>
            <a:r>
              <a:rPr b="0" lang="sl-SI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тубус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величина зависи од ГС и ТМ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2,5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3,5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жењ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алончић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ротрахеал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интубациј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p to lip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=  6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цм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ежи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:   МАСАЖ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5480" y="1785960"/>
            <a:ext cx="87152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70c0"/>
                </a:solidFill>
                <a:uFillTx/>
                <a:latin typeface="Arial"/>
              </a:rPr>
              <a:t>Индикациј</a:t>
            </a:r>
            <a:r>
              <a:rPr b="0" lang="sr-Latn-CS" sz="2400" spc="-1" strike="noStrike" u="sng">
                <a:solidFill>
                  <a:srgbClr val="0070c0"/>
                </a:solidFill>
                <a:uFillTx/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&gt;30 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</a:rPr>
              <a:t>сек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адекватне 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</a:rPr>
              <a:t>вентилациј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ко балон-маске, тубуса или ларингеалне маск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р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&lt; 60/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</a:rPr>
              <a:t>мин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асаж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штачко дисањ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l-SI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3 :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5:2 арест кардијалног порекла;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100%</a:t>
            </a:r>
            <a:r>
              <a:rPr b="0" lang="sl-SI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 сек.?</a:t>
            </a:r>
            <a:r>
              <a:rPr b="0" lang="sl-SI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аније масирати Фр.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90/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0 вентилација /мин=120 догађаја/мин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Нови ставови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сирати Фр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120/мин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а новорођ., 100/мин за децу током 1. године и касниј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ажа срца техником 2 пр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857160" y="2643120"/>
            <a:ext cx="678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:  ЛЕКОВ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1430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дреналин и.в.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уцај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60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екватн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тилациј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аж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азмаекспандер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ћањ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и: Изотоничн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нге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та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албу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,8% бикарбонат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 у пролонгираној реанимацији, код доказане метаболичке ацидо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тернатив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ск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раосал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т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b0f0"/>
                </a:solidFill>
                <a:latin typeface="Cambria"/>
              </a:rPr>
              <a:t>Проблеми који могу да ометају процену цијанозе новорођ. применом транскутане оксиметриј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деми, танка кожа код превремено рођеног дет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ипотермија, хипотенз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лоша перфуз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ериферна вазоконстрикција код шокног стањ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ПЕЦИФИЧНОСТИ ОЖИВЉАВАЊА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ДОНОШЧ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857240"/>
            <a:ext cx="85010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удницам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наталн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укци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тез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рфактанта 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таметаз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саметаз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илактичк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РФАКТАН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нимац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ношчад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Т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8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Т интубацију код новорођенчади рођене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&lt; 29. г.н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а искористити за давање прве дозе сурфактант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ниво препорука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илактичк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рфактан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пре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транспорта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казано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ход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љ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ћност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мпликациј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довољног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зор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нтилаци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ступа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нимаци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ки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након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0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мину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ног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едијатр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сл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живљ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л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хватљив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ид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љењ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авник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еоретик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тик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апочињ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укид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упц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лучи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ођајној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го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е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ач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компатибил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ом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уж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рес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но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и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нзив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ровод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основна (палијативна)</a:t>
            </a:r>
            <a:r>
              <a:rPr b="0" lang="sl-SI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нега</a:t>
            </a:r>
            <a:r>
              <a:rPr b="0" lang="sl-SI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НСПОРТ УГРОЖЕНОГ НОВОРОЂЕНЧ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ПРЕНАТАЛ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ter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”) ил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ПОСТНАТА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“</a:t>
            </a:r>
            <a:r>
              <a:rPr b="0" lang="sr-CS" sz="2000" spc="-1" strike="noStrike">
                <a:solidFill>
                  <a:srgbClr val="00b0f0"/>
                </a:solidFill>
                <a:latin typeface="Arial"/>
              </a:rPr>
              <a:t>транспорт од себ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”- оспособљени тимови у оквиру месне или регионалне службе хитне помоћи (мана –недовољна обученост за специјализован транспор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“</a:t>
            </a:r>
            <a:r>
              <a:rPr b="0" lang="sr-CS" sz="2000" spc="-1" strike="noStrike">
                <a:solidFill>
                  <a:srgbClr val="00b0f0"/>
                </a:solidFill>
                <a:latin typeface="Arial"/>
              </a:rPr>
              <a:t>транспорт ка себ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”- где тим иде по новорођенче и превози га; (мана-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зи из самог ОИН, што повећава потребу за особљ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ПОРТНА ЕКИПА: лекар, медицински техничар и воз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 добар транспорт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опходан је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транспортни инкубатор, извор О2 и транспорни респират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6868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двиђање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живљ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571480"/>
            <a:ext cx="42148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sl-SI" sz="2400" spc="-1" strike="noStrike">
                <a:solidFill>
                  <a:srgbClr val="0070c0"/>
                </a:solidFill>
                <a:latin typeface="Arial"/>
              </a:rPr>
              <a:t>10%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рођенчад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eки од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оступака оживљав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1-2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интубацију, масажу срца и/или медикаментозну реанимацију (</a:t>
            </a:r>
            <a:r>
              <a:rPr b="1" lang="sr-CS" sz="2400" spc="-1" strike="noStrike">
                <a:solidFill>
                  <a:srgbClr val="00b0f0"/>
                </a:solidFill>
                <a:latin typeface="Arial"/>
              </a:rPr>
              <a:t>0,1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ођај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л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у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р једна особ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ним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429080" y="2714760"/>
            <a:ext cx="47149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царск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опходн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удноћ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&lt; 35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УЗР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атолошка презентација,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вишеструка трудноћ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конијал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да на  почетку порођај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вакуум екстракција ил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форцепс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рвављењ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лапс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упчаник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омалиј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ода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према и збрињавање НН током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1.Осигуравање виталних функциј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пираторне сметње и/или хипоксију збринути пре транспор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убирати НН и  прикључити на транспортни респира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ити транскутане електроде за праћењ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е давања тачних резулта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ирање О2 током транспорта најчешће се врши према боји коже и видљивих слуз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дити венску лин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560" y="1785960"/>
            <a:ext cx="8543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штити НН од расхлађивања (транспортни инкубатор..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говати гликемију,ацидобаз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 електролит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тус...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Збрињавање специфичних проблем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зависе од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основног обоље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гастрошиза, омфалокела...);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врсте транспор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пре транспорта хеликоптером аспирирати желудачни садржај и пласирати отворену гастричну сонду)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предвиђене дужине транспор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уколико НН нема хипогликемију, а превоз неће трајати дуже од 30 мин., и.в. линије није неопход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b0f0"/>
                </a:solidFill>
                <a:latin typeface="Arial"/>
              </a:rPr>
              <a:t>Однос према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b0f0"/>
                </a:solidFill>
                <a:latin typeface="Arial"/>
              </a:rPr>
              <a:t>родитељ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узим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пхо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одите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авест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оз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во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танов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одитељ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ч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тан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ефо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стве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е о ситуацији „овде и сада“, а не о перспективи новорођен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РЕМ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14200" y="2071800"/>
            <a:ext cx="8501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нимацио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о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а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л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ним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ти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тила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00”, “0”, “1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рингоско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пат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G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еш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б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трахе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бу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пирацио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тете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пи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о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ар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лсоксимет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л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бил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тете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прице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г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б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вен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0" descr="rea miza"/>
          <p:cNvPicPr/>
          <p:nvPr/>
        </p:nvPicPr>
        <p:blipFill>
          <a:blip r:embed="rId1"/>
          <a:stretch/>
        </p:blipFill>
        <p:spPr>
          <a:xfrm>
            <a:off x="5786280" y="928800"/>
            <a:ext cx="3357720" cy="57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Win7\Desktop\Šema algoritma reanimacije NN.jpg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89298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Оцен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оворођенчета: </a:t>
            </a:r>
            <a:r>
              <a:rPr b="1" lang="sr-CS" sz="3200" spc="-1" strike="noStrike">
                <a:solidFill>
                  <a:srgbClr val="00b0f0"/>
                </a:solidFill>
                <a:latin typeface="Arial"/>
              </a:rPr>
              <a:t>30-60 се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00040" y="2214720"/>
            <a:ext cx="842976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цена квалитета плодове воде и гестацијске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 тела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&lt;36° C </a:t>
            </a:r>
            <a:r>
              <a:rPr b="0" lang="sr-RS" sz="2400" spc="-1" strike="noStrike">
                <a:solidFill>
                  <a:srgbClr val="00b0f0"/>
                </a:solidFill>
                <a:latin typeface="Arial"/>
              </a:rPr>
              <a:t>хипотермија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Бој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о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е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инал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не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авље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др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не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конијална обоје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спирације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а ли плаче?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з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дно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а, аускул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Откуцаји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рца;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п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пчан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х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кул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пплер технике, ЕКГ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онус, рефлексна активност и стање свести;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80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оложај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ђи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у</a:t>
            </a:r>
            <a:br>
              <a:rPr sz="2400"/>
            </a:b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брисањ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актилна стимулација, загревање: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грејава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 више дока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илог хлађењ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33,5 С° до 34,5 С°)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≥3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Г.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 умереном до тешком ХИЕ</a:t>
            </a:r>
            <a:br>
              <a:rPr sz="2400"/>
            </a:b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ослобађање горњих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исајних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утева: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-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АСПИР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дрел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214720" y="5000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) Основна н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857840" y="4572000"/>
            <a:ext cx="40719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онијална, густа, крв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ше или је депримирано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28760" y="4786200"/>
            <a:ext cx="392904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онијалн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ш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рн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) ВЕН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785960"/>
            <a:ext cx="91440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А: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Апнеа &gt;20-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30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сек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, агонално дисање или брадикардија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Cp&lt;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лон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шит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ва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с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у зависности од ГС)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ах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тилирати 15-30 се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бним ваздух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1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мин. и присутна цијаноза, применити О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онцентрацију кисеоника подешавати у односу на регистровану предукталну Са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ном тактилном стимулацијом даље подржати спонтане респир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адувавањ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желуц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пречити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гастричном сондо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l-SI" sz="26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) ВЕНТИЛАЦИЈА балон-маско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85880" y="22147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ширећи балон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тил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3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laerdal"/>
          <p:cNvPicPr/>
          <p:nvPr/>
        </p:nvPicPr>
        <p:blipFill>
          <a:blip r:embed="rId1"/>
          <a:stretch/>
        </p:blipFill>
        <p:spPr>
          <a:xfrm>
            <a:off x="1500120" y="2786040"/>
            <a:ext cx="3857760" cy="3357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857920" y="3143160"/>
            <a:ext cx="278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реанимацији новорођеног детета, притиском два прста на балон избацује се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15 ml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здуха, а сваким додатним прстом још п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 m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Е КОМПЛИК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2071800"/>
            <a:ext cx="9001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ехничк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гре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равил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авље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к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равила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ш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убу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неумотора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омал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ринг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хе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лућа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афрагмал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рн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осеб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тањ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нешенос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стру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равилнос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бдоме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астрошиза</a:t>
            </a:r>
            <a:r>
              <a:rPr b="0" lang="sl-SI" sz="2400" spc="-1" strike="noStrike">
                <a:solidFill>
                  <a:srgbClr val="00b0f0"/>
                </a:solidFill>
                <a:latin typeface="Arial"/>
              </a:rPr>
              <a:t>,</a:t>
            </a:r>
            <a:r>
              <a:rPr b="0" lang="sr-RS" sz="2400" spc="-1" strike="noStrike">
                <a:solidFill>
                  <a:srgbClr val="00b0f0"/>
                </a:solidFill>
                <a:latin typeface="Arial"/>
              </a:rPr>
              <a:t>омфалоцела, дијафрагмална хернија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-контраиндикована вентилациј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Windows User</cp:lastModifiedBy>
  <dcterms:modified xsi:type="dcterms:W3CDTF">2020-09-11T14:02:46Z</dcterms:modified>
  <cp:revision>314</cp:revision>
  <dc:subject/>
  <dc:title>Slide 1</dc:title>
</cp:coreProperties>
</file>