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F84A-07A8-4B4C-8D81-2896DFE2F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B1E6-AEE3-410F-BAE7-373EED26C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НФЕКЦИЈ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ОВОРОЂЕН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320" y="2357280"/>
            <a:ext cx="834228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Calibri"/>
                <a:ea typeface="Calibri"/>
              </a:rPr>
              <a:t>Други по учесталости узрок смрти (после РДС)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имптоми слабо изражени, неспецифични, прикривени, (захваћено је више органских систе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Лабораторијске анализе мање поуз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зрелост имун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к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х и других антиинфламаторних реакција-фулминантан 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Честа резистенција узрочник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 на антибиотик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егзистирањ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 др.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680" y="571320"/>
            <a:ext cx="8115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 u="sng">
                <a:solidFill>
                  <a:srgbClr val="ff0000"/>
                </a:solidFill>
                <a:uFillTx/>
                <a:latin typeface="Arial"/>
              </a:rPr>
              <a:t>Р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0" lang="sr-CS" sz="3600" spc="-1" strike="noStrike" u="sng">
                <a:solidFill>
                  <a:srgbClr val="ff0000"/>
                </a:solidFill>
                <a:uFillTx/>
                <a:latin typeface="Arial"/>
              </a:rPr>
              <a:t>н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0" lang="sr-Latn-CS" sz="3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sr-CS" sz="3600" spc="-1" strike="noStrike" u="sng">
                <a:solidFill>
                  <a:srgbClr val="ff0000"/>
                </a:solidFill>
                <a:uFillTx/>
                <a:latin typeface="Arial"/>
              </a:rPr>
              <a:t>инфекциј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0" lang="sr-Latn-CS" sz="36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ptococu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ру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 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ri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cito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h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occu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r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ebs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eudom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ob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 u="sng">
                <a:solidFill>
                  <a:srgbClr val="ff0000"/>
                </a:solidFill>
                <a:uFillTx/>
                <a:latin typeface="Arial"/>
              </a:rPr>
              <a:t>Касна инфекција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(</a:t>
            </a:r>
            <a:r>
              <a:rPr b="0" lang="sr-RS" sz="2800" spc="-1" strike="noStrike">
                <a:solidFill>
                  <a:srgbClr val="00b0f0"/>
                </a:solidFill>
                <a:latin typeface="Arial"/>
              </a:rPr>
              <a:t>у хоспиталним условима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14360"/>
            <a:ext cx="740088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phylococcus coagulase n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phylococcus aur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mon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netobacter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ebsiella 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ултирезистентни сојев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ida alb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0000"/>
                </a:solidFill>
                <a:uFillTx/>
                <a:latin typeface="Arial"/>
              </a:rPr>
              <a:t>Касна</a:t>
            </a: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sr-CS" sz="3200" spc="-1" strike="noStrike" u="sng">
                <a:solidFill>
                  <a:srgbClr val="ff0000"/>
                </a:solidFill>
                <a:uFillTx/>
                <a:latin typeface="Arial"/>
              </a:rPr>
              <a:t>инфекција</a:t>
            </a: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</a:rPr>
              <a:t>настала</a:t>
            </a:r>
            <a:r>
              <a:rPr b="0" lang="sr-Latn-C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</a:rPr>
              <a:t>кућној</a:t>
            </a:r>
            <a:r>
              <a:rPr b="0" lang="sr-Latn-C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</a:rPr>
              <a:t>среди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рептоко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уп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а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гатив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ЗНАЦ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213920"/>
            <a:ext cx="819936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Рани</a:t>
            </a:r>
            <a:r>
              <a:rPr b="0" lang="sr-Latn-C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зна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мење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ш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летаргија или 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немирено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отерм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р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не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хипне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спиратор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стр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хикардија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ли брадикард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азомотор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стабил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мећа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хра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аћ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аре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утица или марморизована кожа, кож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ме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1320" y="213840"/>
            <a:ext cx="8628120" cy="58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асни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знаци инфе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Респираторна дисфункција  (РДС)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јано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ч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пне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неумон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Циркулаторна дисфункција 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ћана васкуларна пермеабилност, редистрибуција интраваскуларног волумена течности, системска хипотензија, срчана инсуфицијенција, септични шок (топли или хлад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Абдоминална дисфункција 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стинал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пструк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 дисфункција јет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Хеморагијск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дијатеза (ДИК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дуже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вар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с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бод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тех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Ренална дисфункција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леред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ЦН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искав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лач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баче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ла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пе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нтане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вулз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нингити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 енцефалопатија или периферна неуропат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bebina noga"/>
          <p:cNvPicPr/>
          <p:nvPr/>
        </p:nvPicPr>
        <p:blipFill>
          <a:blip r:embed="rId1"/>
          <a:stretch/>
        </p:blipFill>
        <p:spPr>
          <a:xfrm>
            <a:off x="6500880" y="142920"/>
            <a:ext cx="2428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ПРОШИРЕНА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ЛИСТА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ЗНА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6760" y="1999800"/>
            <a:ext cx="857268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Фебрилнос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&gt;38,5C°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&gt;37,8C°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дуж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1h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хипотерм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&lt;36,0°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Тахикардиј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&gt;180/min)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тахипне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(&gt;60/min)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хипервентилац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(pCO2 &lt;4,25kPa)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Calibri"/>
                <a:ea typeface="Calibri"/>
              </a:rPr>
              <a:t>Хипоксија: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О2&lt;7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mHg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SaO2&lt;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 код терминске нов. 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aO2&lt;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8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 код превремено рођене де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игнификант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еде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зитива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балан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течнос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&gt;20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л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2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 и пораст креатинина за 0,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g/dl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Хипергликем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&gt;120mg/dl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 или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6,6 mmol/l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Хипербилирубинемија, порас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ST,ALT,LDH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и алкалне фосфатазе, хипоалбумин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ЛАБОРАТОРИЈСКИ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ЗНА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4200" y="1928520"/>
            <a:ext cx="878688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Леукоцитоза или леукопенија; Неутрофилија или неутропенија (&lt;15000) која је чешћа од неутрофилије и представља лош прогностички зна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већан однос незрелих према укупном броју неутрофила (&gt;0,2 или 0,16 у првих 2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живо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Тромбоцитопенија, продужен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Т 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aPTT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, уз повишен нив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D-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имера, снижен ниво фибриногена и протеина-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вишен нив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RP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ил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вишен нив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L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6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D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тзв. пресепсин)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NF-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ал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таболичка ацидоз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 (лактати &gt;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mmol/l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Ртг (плућа, абдомена, костиј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БАКТЕРИОЛОШКА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ОБ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2852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Хемокул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улту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цереброспиналне течнос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икво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ринокул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улту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рахеално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гастрично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спи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прокултур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 или ректални б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улту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екре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чију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же и назофарин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улту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иновијал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нтрол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бактериолошк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гле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зврши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  <a:ea typeface="Calibri"/>
              </a:rPr>
              <a:t>48-7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h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четк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говарајућ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тибиотск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рапије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циљу провере терапијског одговор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Емпиријска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антибиотска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Ран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инфе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мпицил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миногликоз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м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нинг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ап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ључи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цефалоспорин</a:t>
            </a:r>
            <a:r>
              <a:rPr b="0" lang="sr-Latn-CS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III</a:t>
            </a:r>
            <a:r>
              <a:rPr b="0" lang="sr-Latn-CS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генера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динира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уместо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аминогликози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лаб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олаз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ематенцефалн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аријер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840" y="1999800"/>
            <a:ext cx="89298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Касн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инфекциј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стечен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у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кућној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средини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мпицили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+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миногликоз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Касн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инфекциј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стечен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у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болничкој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среди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цефалоспори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II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генерац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комици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еницилина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езистент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еници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Емпиријску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тибиотску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рапију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почет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мах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зимању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зорак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ултур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!!!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обијањ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езулта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улту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тибиогра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поче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циљан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тибиотск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рап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ужина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антибиотске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4240" y="161568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Антибиотс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терап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ровод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2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недељ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гра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+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3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недељ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сеп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стерилиз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хемокулту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Терап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менингити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ровод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3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недељ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2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недељ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стерилиз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лик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Терап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остеомијелити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артрити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тра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3-4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недељ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БАКТЕРИЈСКЕ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82296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ФИН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инфламаторни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одговор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суств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икроорганиза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њ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азван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</a:rPr>
              <a:t>инвазију</a:t>
            </a:r>
            <a:r>
              <a:rPr b="0" lang="sr-Latn-C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</a:rPr>
              <a:t>нормално</a:t>
            </a:r>
            <a:r>
              <a:rPr b="0" lang="sr-Latn-C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</a:rPr>
              <a:t>стерилних</a:t>
            </a:r>
            <a:r>
              <a:rPr b="0" lang="sr-Latn-C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</a:rPr>
              <a:t>ткива</a:t>
            </a:r>
            <a:r>
              <a:rPr b="0" lang="sr-Latn-C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маћ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онаталн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екција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атра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стал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в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b0f0"/>
                </a:solidFill>
                <a:latin typeface="Arial"/>
              </a:rPr>
              <a:t>28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</a:rPr>
              <a:t>дана</a:t>
            </a:r>
            <a:r>
              <a:rPr b="0" lang="sr-Latn-C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иво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6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ер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отпорн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928440"/>
            <a:ext cx="51339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е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оксем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е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еноелектролит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сбала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говарајућ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им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морегул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ансфуз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ц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С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екци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агул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отропна и вазопресорна 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омодулаторна терапиј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и.в. имуноглобулини, антиоксиданси, кортикостероиди, пентоксифилин, ТС гранулоцита и с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ксангвинотрансфу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Photo-0282"/>
          <p:cNvPicPr/>
          <p:nvPr/>
        </p:nvPicPr>
        <p:blipFill>
          <a:blip r:embed="rId1"/>
          <a:stretch/>
        </p:blipFill>
        <p:spPr>
          <a:xfrm>
            <a:off x="5364000" y="2478240"/>
            <a:ext cx="36370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БАКТЕРИЈСК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ЕНИНГИТИ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1320" y="2000160"/>
            <a:ext cx="8699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ЧЕШЋИ</a:t>
            </a:r>
            <a:r>
              <a:rPr b="0" lang="sr-Latn-CS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КОД</a:t>
            </a:r>
            <a:r>
              <a:rPr b="0" lang="sr-Latn-CS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ПРЕВРЕМЕНО</a:t>
            </a:r>
            <a:r>
              <a:rPr b="0" lang="sr-Latn-CS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РОЂЕНЕ</a:t>
            </a:r>
            <a:r>
              <a:rPr b="0" lang="sr-Latn-CS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ДЕ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Учесталост</a:t>
            </a:r>
            <a:r>
              <a:rPr b="0" lang="sr-Latn-CS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0,13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0,4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100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ивородје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м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1,36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2,5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100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ивородје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м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ЕТИОЛОГИЈА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Грам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, Proteus, Pseudomonas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bsiell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Грам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reptococcus BHSB , Saphylococcus aureus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bu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ria monocitoge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рочниц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н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гити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&gt;3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с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еца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офилу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луенц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&lt;1%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неумоко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%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нингок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изузет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новорођеног дете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МЕНИНГИТИС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ИЗАЗВАН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H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1680" y="1928520"/>
            <a:ext cx="85564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b0f0"/>
                </a:solidFill>
                <a:latin typeface="Calibri"/>
                <a:ea typeface="Calibri"/>
              </a:rPr>
              <a:t>РАНИ</a:t>
            </a:r>
            <a:r>
              <a:rPr b="0" lang="sr-Latn-CS" sz="2800" spc="-1" strike="noStrike">
                <a:solidFill>
                  <a:srgbClr val="00b0f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Calibri"/>
                <a:ea typeface="Calibri"/>
              </a:rPr>
              <a:t>ОБЛИК</a:t>
            </a:r>
            <a:r>
              <a:rPr b="0" lang="sr-Latn-CS" sz="2800" spc="-1" strike="noStrike">
                <a:solidFill>
                  <a:srgbClr val="00b0f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ста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вих 24-72са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8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Анамнестичк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дац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мпликација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ток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рођа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минирају симптоми 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нац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пс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Д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линичк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ток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фулминанта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смртни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исход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ff0000"/>
                </a:solidFill>
                <a:latin typeface="Calibri"/>
                <a:ea typeface="Calibri"/>
              </a:rPr>
              <a:t>се јавља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Calibri"/>
              </a:rPr>
              <a:t> 50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-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Calibri"/>
              </a:rPr>
              <a:t>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b0f0"/>
                </a:solidFill>
                <a:latin typeface="Calibri"/>
                <a:ea typeface="Calibri"/>
              </a:rPr>
              <a:t>КАСНИ</a:t>
            </a:r>
            <a:r>
              <a:rPr b="0" lang="sr-Latn-CS" sz="2800" spc="-1" strike="noStrike">
                <a:solidFill>
                  <a:srgbClr val="00b0f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Calibri"/>
                <a:ea typeface="Calibri"/>
              </a:rPr>
              <a:t>ОБЛИК</a:t>
            </a:r>
            <a:r>
              <a:rPr b="0" lang="sr-Latn-CS" sz="2800" spc="-1" strike="noStrike">
                <a:solidFill>
                  <a:srgbClr val="00b0f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јављ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12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-о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8-12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дељ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живо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минирају неуролошки зна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линичк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анифестаци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блаж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ток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гресива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смртност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Calibri"/>
              </a:rPr>
              <a:t> 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Calibri"/>
              </a:rPr>
              <a:t> 14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-20%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оболел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гуће комплик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://img.medscapestatic.com/pi/meds/ckb/15/15515.jpg"/>
          <p:cNvPicPr/>
          <p:nvPr/>
        </p:nvPicPr>
        <p:blipFill>
          <a:blip r:embed="rId1"/>
          <a:stretch/>
        </p:blipFill>
        <p:spPr>
          <a:xfrm>
            <a:off x="857160" y="2786040"/>
            <a:ext cx="2500560" cy="29052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4143240" y="2214720"/>
            <a:ext cx="4071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нтрикулит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Церебрални ед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дроцефал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бдурални емпиј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вул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штећење сл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7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ДГ КРИТЕРИЈУМИ ЗА МЕНИНГИТ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14200" y="1714320"/>
            <a:ext cx="871560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золација и идентификација бактерија и њихових антигена у ликво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&gt;30 неутрофил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мм³ ликвора (уколико је траумат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.П. однос Ер и Ле &gt; 500: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НН са високим ризиком, распон полиморфонуклеарних Ле од 1 до 31 (Полиморфонуклеарни Ле чине најмање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33,3%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 укупног бр. Л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Протеинорахија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&gt; 2г/л код терминског ; &gt; 3,7г/л код претерминског НН;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Гликорах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&lt;50% од вредности у серу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ишен ниво цитокин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NF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ф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6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14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857160"/>
            <a:ext cx="85406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0000"/>
                </a:solidFill>
                <a:latin typeface="Arial"/>
              </a:rPr>
              <a:t>Нови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ff0000"/>
                </a:solidFill>
                <a:latin typeface="Arial"/>
              </a:rPr>
              <a:t>термин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СИ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785960"/>
            <a:ext cx="91440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ндр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стемск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ламатор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говор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ламатор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ичи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тив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инфектив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ген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екоти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штеће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га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п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нкреатити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КРИТЕРИЈУМИ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ЗА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СИРС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° &gt;38C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&lt;36C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хикард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Cp &gt; 2 SD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хипне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R&gt; 2 SD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вентил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Pa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&lt;4,25 kP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укоцит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укопен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&lt;5000/ml)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рет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ормул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во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&gt;10% </a:t>
            </a: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незрелих фор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атогенези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еле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нгенитал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ече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траутери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иво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еринатал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ече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посред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рођа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озокомијалн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ече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оспитализ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оворођенче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1356840"/>
            <a:ext cx="854064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локализацији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еле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4200" y="1714320"/>
            <a:ext cx="85010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Локализоване: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нингити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неумониа, уринар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астроентерити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Генерализова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п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ан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вијен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2-3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иво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ас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вијен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ериод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28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иво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НЦИДЕ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28520"/>
            <a:ext cx="86868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актеријс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1-10/1000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епс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-8/1000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енингити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    0,3-0,4/1000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неумони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,3/1000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5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ханичко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нтил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ринарн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0,1-1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озокомијал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0,5-1,7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ељењ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г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драв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1213920"/>
            <a:ext cx="854064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ИЗИК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АЗВОЈ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2285640"/>
            <a:ext cx="85406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 u="sng">
                <a:solidFill>
                  <a:srgbClr val="00b0f0"/>
                </a:solidFill>
                <a:uFillTx/>
                <a:latin typeface="Arial"/>
              </a:rPr>
              <a:t>Везани</a:t>
            </a:r>
            <a:r>
              <a:rPr b="0" lang="sr-Latn-CS" sz="2400" spc="-1" strike="noStrike" u="sng">
                <a:solidFill>
                  <a:srgbClr val="00b0f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b0f0"/>
                </a:solidFill>
                <a:uFillTx/>
                <a:latin typeface="Arial"/>
              </a:rPr>
              <a:t>за</a:t>
            </a:r>
            <a:r>
              <a:rPr b="0" lang="sr-Latn-CS" sz="2400" spc="-1" strike="noStrike" u="sng">
                <a:solidFill>
                  <a:srgbClr val="00b0f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b0f0"/>
                </a:solidFill>
                <a:uFillTx/>
                <a:latin typeface="Arial"/>
              </a:rPr>
              <a:t>мајку</a:t>
            </a:r>
            <a:r>
              <a:rPr b="0" lang="sr-Latn-CS" sz="2400" spc="-1" strike="noStrike" u="sng">
                <a:solidFill>
                  <a:srgbClr val="00b0f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тходна обољења мајке (дијабетес, епилепсија, астма, срчана или бубрежна обољења..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лнутри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ж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оцијал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ту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јке, пуш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туел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носи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ј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лониз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рептокок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уп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, 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мптоматс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ктери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суство пренаталне неге, слабија нега зуба и периденталне болести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428760" y="1143000"/>
            <a:ext cx="807228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b0f0"/>
                </a:solidFill>
                <a:uFillTx/>
                <a:latin typeface="Arial"/>
              </a:rPr>
              <a:t>перипартални</a:t>
            </a:r>
            <a:r>
              <a:rPr b="0" lang="en-US" sz="3200" spc="-1" strike="noStrike" u="sng">
                <a:solidFill>
                  <a:srgbClr val="00b0f0"/>
                </a:solidFill>
                <a:uFillTx/>
                <a:latin typeface="Arial"/>
              </a:rPr>
              <a:t> </a:t>
            </a:r>
            <a:r>
              <a:rPr b="0" lang="sr-CS" sz="3200" spc="-1" strike="noStrike" u="sng">
                <a:solidFill>
                  <a:srgbClr val="00b0f0"/>
                </a:solidFill>
                <a:uFillTx/>
                <a:latin typeface="Arial"/>
              </a:rPr>
              <a:t>ризикофак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довољ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ече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фокал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нфекц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ајк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вагинал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цервикал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ринар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истемск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нфекц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ајк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епс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више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мперату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без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фокус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па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упту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лодови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војак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уж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1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матурите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ал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М при рође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рођајне повре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еринатал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сфикс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нструментално завршен порођај (ваккум, форцеп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60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600" spc="-1" strike="noStrike" u="sng">
                <a:solidFill>
                  <a:srgbClr val="00b0f0"/>
                </a:solidFill>
                <a:uFillTx/>
                <a:latin typeface="Arial"/>
              </a:rPr>
              <a:t>Везани</a:t>
            </a:r>
            <a:r>
              <a:rPr b="0" lang="sr-Latn-CS" sz="3600" spc="-1" strike="noStrike" u="sng">
                <a:solidFill>
                  <a:srgbClr val="00b0f0"/>
                </a:solidFill>
                <a:uFillTx/>
                <a:latin typeface="Arial"/>
              </a:rPr>
              <a:t> </a:t>
            </a:r>
            <a:r>
              <a:rPr b="0" lang="sr-CS" sz="3600" spc="-1" strike="noStrike" u="sng">
                <a:solidFill>
                  <a:srgbClr val="00b0f0"/>
                </a:solidFill>
                <a:uFillTx/>
                <a:latin typeface="Arial"/>
              </a:rPr>
              <a:t>за</a:t>
            </a:r>
            <a:r>
              <a:rPr b="0" lang="sr-Latn-CS" sz="3600" spc="-1" strike="noStrike" u="sng">
                <a:solidFill>
                  <a:srgbClr val="00b0f0"/>
                </a:solidFill>
                <a:uFillTx/>
                <a:latin typeface="Arial"/>
              </a:rPr>
              <a:t> </a:t>
            </a:r>
            <a:r>
              <a:rPr b="0" lang="sr-CS" sz="3600" spc="-1" strike="noStrike" u="sng">
                <a:solidFill>
                  <a:srgbClr val="00b0f0"/>
                </a:solidFill>
                <a:uFillTx/>
                <a:latin typeface="Arial"/>
              </a:rPr>
              <a:t>новорођенч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уш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зре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с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таболич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алактозем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с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об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изи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во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а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гатив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п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вел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пара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вожђа, примена кортикостеро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атомски дефекти (гастрошиза, мијеломенингокела, ВУ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есте инванзивне процедуре, механичка вентилација, и.в. катетри, пролонгирана антибиотска или парентерална исхрана, неадкватна нега ко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20-09-30T16:56:07Z</dcterms:modified>
  <cp:revision>135</cp:revision>
  <dc:subject/>
  <dc:title>Slide 1</dc:title>
</cp:coreProperties>
</file>