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D57-C871-4E3F-9D19-3903C8BF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C13-2672-4DBA-9B92-CB0509C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197-84FF-48FF-9422-B57E3D6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3F6-BFB5-4098-A010-01CE9A37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3C9-1882-42D7-A4D3-8DA689C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130-8B92-4B4C-BB7B-181F992D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A50-182B-4AC7-AB74-ACACEDD0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901-2DE9-408A-80D7-7FA91774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3B8-A168-4CD6-AA3B-25AA89A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A44-383A-4758-9BC7-78D8534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EC5-AB0A-4DB9-A476-F427CC2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600-32B1-4A9F-A3E1-4A48F7C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18D-5E8F-4F61-9A27-05661054DC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41528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ОНАТАЛ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928680"/>
            <a:ext cx="72723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25-50% терминске и 80-87% претерминске деце развија видљиву жут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ф. др Александра Сим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4191120" y="45720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5000760" y="71424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THE MEDICAL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2571840" y="714240"/>
            <a:ext cx="185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EDICINSKI FAKUL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NIVERZITET U KRAGUJEV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9192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ентерохепатична циркулација билируб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асажа црев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(опструкција црева, меконијални илеус, паралитички илеус, хипотиреоза, ресорпција прогутане крв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стали узро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траутерина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сфикс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те дијабетичне мај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иректни и директни билируб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на слика, број ретикулоцита и морфологија 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на гру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R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актор детета и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ект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oombs-o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t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тела у крви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лошка обрадa (хемокултурa, уринокултур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ототерапиј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максимум апсорпције код та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не дужине светл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50-460nm;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контраиндикована код коњуговане хипербилирубинемије!!!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бумини</a:t>
            </a:r>
            <a:r>
              <a:rPr b="0" lang="sr-C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(побољшавају транспорт билирубин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Леков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нобарбит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(повећава коњугацију и екскрецију билруб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муноглобулин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250-800mg/kg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2-3 дан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сангвинотранс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ЖУ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25360"/>
            <a:ext cx="8507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ФИНИЦ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када се не јавља у прва 2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 (&lt;36h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гресиван раст некоњугованог билирубина од 30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пупчанику до мах. 220,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205-256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3.-4. ог дана ж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и се губи у првој, а лабораторијски у другој недељи ж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 коњугованог билирубина никада не прелази 15% укупног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захтева терап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д донешеног 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857240"/>
            <a:ext cx="7900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њугoвани билирубин: ма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10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166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 48.-72. сата живo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се жутица не уочава после прве недеље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о краја друге недељe нормализују сe врeдности билируби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(3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836280"/>
            <a:ext cx="8104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њуговани билуруб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х. 170-20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међ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4. и 5. дана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се жутица не уочава после друге недеље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о краја 4. недеље нормализују сe врeдности билируб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57120" y="765000"/>
            <a:ext cx="75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д недонешеног новорођенч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55520" y="-50976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55520" y="-50976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15552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 ФИЗИОЛОШКЕ ЖУТ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н прилив билирубина у јетру (краћи живот Ер, повећана укупна маса Ер, повишен билирубин нехемоглобинског порекла, велика ентерохепатична циркулациј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 улазак билирубина у хепатоци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а коњугација билирубина (дефицит ензи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а оксигенација јетре после подвезивања пупча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АТОЛОШКА ЖУТ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360"/>
            <a:ext cx="85075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јава жутице у прва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живот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ICTERUS PRAECOX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здраве 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рођ. конц. индиректног билируби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205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ира дуже од 7 да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д претерминске новорођ. конц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директног билирубин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 255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видљива и после 14 д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ICTERUS PROLONGATUS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аст конц. билируби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8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3,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/24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утица болесног нов., ако је билирубинемија &gt;220,5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 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ICTERUS GRAVIS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иректна хипербилирубинем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н прилив билирубина у хепатоците услед повећаног стварања булируби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на болест новорођенч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не анем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на број Ер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а узрокована применом ле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витамин К, сулфонамиди, окситоцин, пеницилин, антималар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ремећај транспорта билируб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к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албумин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 (аспирин, диазепам, сулфонами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мањена коњугација билирубина у јет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следни дефицит ензима глукуронил-трансфераз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Sy Crigler-Najjar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п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, II, Sy Gilbe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ире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глик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ужена жутица на природн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на фамилијaрнa жутиц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Lucey-Drisco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7:22:30Z</dcterms:created>
  <dc:creator>Info</dc:creator>
  <dc:description/>
  <dc:language>en-US</dc:language>
  <cp:lastModifiedBy>User</cp:lastModifiedBy>
  <dcterms:modified xsi:type="dcterms:W3CDTF">2020-09-30T17:07:21Z</dcterms:modified>
  <cp:revision>127</cp:revision>
  <dc:subject/>
  <dc:title>NEONATALNA HIPERBILIRUBINEMIJA</dc:title>
</cp:coreProperties>
</file>